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962A-8512-4D90-AFC4-D9EE00061B81}" type="slidenum">
              <a:rPr b="0" lang="en-M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BCDF-199D-4DC1-B4CB-BCAD82387119}" type="slidenum">
              <a:rPr b="0" lang="en-M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BC4D-539A-4C50-932C-B81E0C2E0E19}" type="slidenum">
              <a:rPr b="0" lang="en-M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2717-7DCF-4940-90E7-7EA2B04AF100}" type="slidenum">
              <a:rPr b="0" lang="en-M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8370-FAAC-46EC-ACFD-A3D16F8B2D4B}" type="slidenum">
              <a:rPr b="0" lang="en-M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058B-7F50-43EB-88A6-372BF24E2681}" type="slidenum">
              <a:rPr b="0" lang="en-M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0CB0-9EFD-480A-B2E3-B1E79D847EFF}" type="slidenum">
              <a:rPr b="0" lang="en-M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AAE5-43A8-4BF4-9DA8-EEAFC4B79AE8}" type="slidenum">
              <a:rPr b="0" lang="en-M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E759-85B6-4CE8-B9A1-1DEE7813AC0D}" type="slidenum">
              <a:rPr b="0" lang="en-M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5BEC-A2E5-4831-80BE-197531FFC071}" type="slidenum">
              <a:rPr b="0" lang="en-M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4349-E5D3-4797-B465-997F6D3FD9AC}" type="slidenum">
              <a:rPr b="0" lang="en-M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CF47-5244-4083-A3F4-F8ABB3C161F0}" type="slidenum">
              <a:rPr b="0" lang="en-M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D447F-89DE-4B84-92AD-22D3F421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F4D93-D9CD-4A27-B0BB-0E6637B9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54196-DFFC-491A-8840-0DCC2B0C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AB703-D26B-433C-8366-05111D80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54269-9E80-40AE-BE6A-47A5FB09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FBA65-5B85-405B-8E2C-CE160F84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A2CCA-98C5-4E79-9B12-A39A7150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018B0-33A3-480D-B661-B9F4E79E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46B45-42C0-4110-A4E1-E2BEFA8C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4BFE0-CB4B-43A4-BA01-A7B08286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E1DA8-487D-430F-897A-67891EE8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2D868-0505-41C1-943A-9C5DF088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B4DDF-08E0-4774-B460-490FA0AA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9DC79-9024-4E85-874E-3FF0F4DA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A7136-D3DE-4273-B517-8BEA4AF8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0BD68-801B-402F-B346-422E4BD1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6C873-22A8-4F06-B89D-0762F5E4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7C1B8-B59A-4919-8CAE-FF87AB90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A6C94-C76A-495F-8E87-1FE9BAD7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E7E94-A934-4645-8DCD-C2A1D484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65F3A-B27B-4ED3-901F-C1DCEF2C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D5FF1-A8E5-4E12-8635-8D7C9EAC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FAEC9-F212-4CE2-BF31-CF7AFB83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35F5E-40AA-403F-882C-D1BDC0C3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7997E-4F48-4AA7-98A6-30B84A33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0E04B-7EEB-45BC-AC94-D62F1752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AED72-DB15-4DE7-8592-87A6EA39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52966-0445-41A2-BEE5-6B34B4F0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BA2D3-698D-4BDF-AA0F-D4CA8308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66584-7D35-43A3-A345-A1BC107D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F29-14C6-49D4-8833-5BA335E6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CCF02-1549-4620-93B8-F44E58AC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55469-9F6F-43F3-A8F0-E70EC494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764FE-4561-4CED-B9AB-07F51362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2A128-0EBE-459B-9E81-859C346B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4D9E7-18A8-45A3-8EB8-BBF8EB68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BB715-821D-4041-8404-B6180534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A7EF9-5ADD-4E72-BB34-FB485CA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B0EBB-4A5A-4060-9233-945A0C8D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64189-9737-4F29-9B54-28DB85C9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D5B33-16EE-474D-97D9-18BFD1AE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313-A220-44D7-96FD-645D2099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3EE6B-1CB9-439E-8263-8C222E4A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50DE2-5197-4AC4-8F88-00F4E48F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D42E7-C247-4757-8559-A52BD6E8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55B75-D4C8-427E-90A5-499C1D6C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2CFF2-3B6E-4D7C-92BF-F0F6962E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F03-8D82-4AF5-BF19-5CAC7169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1F4-BF5D-4C6A-9DD3-AE1E535D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56F-DD44-4327-B71C-7F512E9B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266-D2B8-439E-BC19-9AE782C2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C36-1A46-402D-A99B-313BB6AC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E75-355B-44FF-85C9-C807B207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F8C-D6DB-4E01-AFA2-F9B227F5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87AB-9924-445B-B089-70D4C5D0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F10-2BD4-4C4B-A9C4-DCD706A5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CA1-0B2F-450C-A4D9-3C23B00B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31AB-A710-4F8E-A0B0-7EF9FF30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FAA7-C53E-4369-BF09-53E33AE5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FA55-9797-45F0-83FC-17D76848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9994-FD32-4E18-8429-CBDAF3D2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6CAC-D23B-4585-ABAA-0278D671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2E22-46C3-4DED-AD26-949FB977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896C-079A-4F43-89AC-CB4961F3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59AA-B034-4BF4-BA12-FFC39F4E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374B-61DC-41F5-B27B-1B95ED8B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C81D-F249-41AC-9AFC-AAE9A2CB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FA18-1E67-46A1-9516-B6DB2F1B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1574-E2ED-42CA-A250-B76EBE15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29967-ECB4-4EC9-B686-C1F62D53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902FE-540B-47E2-A53E-86759DD7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432C5-3B94-488D-8BF7-E6828B0D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2A77C-57A5-48CB-BC69-36D45BE7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A4BB5-A168-4F8C-9383-BFBBE41C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5AA1-DE9C-48BA-AB2A-722B2B4E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A1C5D-F55B-4270-876D-8EFCE3E2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8A98-2D23-4478-9D54-78C1D4CF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6BB8-2F0A-4EEE-9747-0986D59F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12059-62AB-4780-95F0-09D53B46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E6C0-0C46-4FBF-B0A8-B9EBCAFA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ABD8-0710-4D82-B4F5-213B220E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AD2B6-4534-439C-8926-75075994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C5E1-D377-4263-922A-46FD3178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25330-4F32-4783-8B60-C23E0868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28E81-482B-4F06-A554-37151033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4840-6581-46A4-9E64-6C76E486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464BB-8E25-4EAA-9271-67993AE4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B8BA9-CEBA-48B7-B5FC-F594BF2A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772BD-9C77-49CE-81B6-897B0F6F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6BC13-96AF-4634-8C6D-AFC715A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A1AA8-8492-4290-9CA2-5D4B3BCC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507E9-E110-4324-A15A-FDD2AE60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C281D-C8C8-4D4A-93D0-B1EC5C3C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E5414-34E2-41C0-9CE3-545894D4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AB5F7-8E84-4332-8E25-9403F792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D8E9-291B-4BD7-BDFD-2019834C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64631-8E25-4922-BE52-3786CD3B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EEFD3-B7AA-454B-982E-CA0ECA70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C59FE-2C7C-41EB-95B1-F036B2CE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3036A-A8F6-4C1C-AB34-74AFE7D8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778BA-B97D-4D2A-96CB-17A85DEE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DAA59-F3EA-452B-B5C6-EBBDC94A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9CAF4-D769-4228-8C2D-A87C33B5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88331-2A35-4E7C-8C92-4FAC1D4B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58E92-8606-465D-84FA-4E483B46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0B558-7E0F-49F7-BBFE-BF87F1D8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78DDC-0796-4E23-86D7-64DF5714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9D7B2-CA2B-4F50-A82B-776704BC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059E6-EFBA-4929-8704-DC6BDEEA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1DCE2-3EF4-4247-A5FC-FABA29B8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05D60-C72D-45C3-ACC2-418899D6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9AD0E-D611-476E-ABC7-59DBA275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9E30A-6B1E-45ED-AA61-4B59FE1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E09A-B69F-4D10-8188-0226BED6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B9E4F-9C71-4630-B941-5287F53C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D1DA2-7AEE-4E5E-8385-035C4E25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C32AF-8C49-473B-AE0C-269B780A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54C28-02C8-46DC-946C-C2871963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1C73C-F658-4E64-9990-620BF654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82E16-8052-4EFF-A59F-B8241483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680D4-9AA2-4B8A-B630-C64B0920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6AC38-8D6F-4297-B4C9-3AE01DBC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F364F-2A2C-4C91-BD5A-6BF53E46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8E47F-1888-45CB-AE36-54DBAC5F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E6644-8921-4431-8197-DC31C99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C6D18-FD58-4832-BC77-7FB2B329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53F2F-9C42-4A85-85D2-F17F9FE3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4D404-E051-4EE9-AF4B-1482F51C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B72BF-7BDB-4F1E-9679-3299FCD8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A93C6-CCB7-41F1-8CA3-201E218F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0D56E-9545-42D0-9BA9-ECC6321E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EA103-4C2A-420B-B340-0608B332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KPM-LOGO.jpg"/>
          <p:cNvPicPr/>
          <p:nvPr/>
        </p:nvPicPr>
        <p:blipFill>
          <a:blip r:embed="rId2"/>
          <a:stretch/>
        </p:blipFill>
        <p:spPr>
          <a:xfrm>
            <a:off x="7848720" y="160200"/>
            <a:ext cx="1143000" cy="1059120"/>
          </a:xfrm>
          <a:prstGeom prst="rect">
            <a:avLst/>
          </a:prstGeom>
          <a:ln w="0">
            <a:noFill/>
          </a:ln>
        </p:spPr>
      </p:pic>
      <p:sp>
        <p:nvSpPr>
          <p:cNvPr id="1" name="Straight Connector 7"/>
          <p:cNvSpPr/>
          <p:nvPr/>
        </p:nvSpPr>
        <p:spPr>
          <a:xfrm>
            <a:off x="7696080" y="152280"/>
            <a:ext cx="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8"/>
          <p:cNvSpPr/>
          <p:nvPr/>
        </p:nvSpPr>
        <p:spPr>
          <a:xfrm>
            <a:off x="5939640" y="641520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aramond"/>
              </a:rPr>
              <a:t>..:: Kementerian Pelajaran Mala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9"/>
          <p:cNvSpPr/>
          <p:nvPr/>
        </p:nvSpPr>
        <p:spPr>
          <a:xfrm>
            <a:off x="5288040" y="168120"/>
            <a:ext cx="239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. Pengurusan  Data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agi Sekolah-Seko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i Bawah K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6" descr="KPM-LOGO.jpg"/>
          <p:cNvPicPr/>
          <p:nvPr/>
        </p:nvPicPr>
        <p:blipFill>
          <a:blip r:embed="rId2"/>
          <a:stretch/>
        </p:blipFill>
        <p:spPr>
          <a:xfrm>
            <a:off x="7848720" y="160200"/>
            <a:ext cx="1143000" cy="1059120"/>
          </a:xfrm>
          <a:prstGeom prst="rect">
            <a:avLst/>
          </a:prstGeom>
          <a:ln w="0">
            <a:noFill/>
          </a:ln>
        </p:spPr>
      </p:pic>
      <p:sp>
        <p:nvSpPr>
          <p:cNvPr id="387" name="Straight Connector 7"/>
          <p:cNvSpPr/>
          <p:nvPr/>
        </p:nvSpPr>
        <p:spPr>
          <a:xfrm>
            <a:off x="7696080" y="152280"/>
            <a:ext cx="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5939640" y="641520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aramond"/>
              </a:rPr>
              <a:t>..:: Kementerian Pelajaran Mala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9"/>
          <p:cNvSpPr/>
          <p:nvPr/>
        </p:nvSpPr>
        <p:spPr>
          <a:xfrm>
            <a:off x="5288040" y="168120"/>
            <a:ext cx="239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. Pengurusan  Data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agi Sekolah-Seko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i Bawah K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9290-2426-4373-ABDB-3185A2024137}" type="slidenum"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6" descr="KPM-LOGO.jpg"/>
          <p:cNvPicPr/>
          <p:nvPr/>
        </p:nvPicPr>
        <p:blipFill>
          <a:blip r:embed="rId2"/>
          <a:stretch/>
        </p:blipFill>
        <p:spPr>
          <a:xfrm>
            <a:off x="7848720" y="160200"/>
            <a:ext cx="1143000" cy="1059120"/>
          </a:xfrm>
          <a:prstGeom prst="rect">
            <a:avLst/>
          </a:prstGeom>
          <a:ln w="0">
            <a:noFill/>
          </a:ln>
        </p:spPr>
      </p:pic>
      <p:sp>
        <p:nvSpPr>
          <p:cNvPr id="430" name="Straight Connector 7"/>
          <p:cNvSpPr/>
          <p:nvPr/>
        </p:nvSpPr>
        <p:spPr>
          <a:xfrm>
            <a:off x="7696080" y="152280"/>
            <a:ext cx="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5939640" y="641520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aramond"/>
              </a:rPr>
              <a:t>..:: Kementerian Pelajaran Mala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9"/>
          <p:cNvSpPr/>
          <p:nvPr/>
        </p:nvSpPr>
        <p:spPr>
          <a:xfrm>
            <a:off x="5288040" y="168120"/>
            <a:ext cx="239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. Pengurusan  Data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agi Sekolah-Seko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i Bawah K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32A9-3C34-4257-AF2C-F5971AF3DE60}" type="slidenum"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6" descr="KPM-LOGO.jpg"/>
          <p:cNvPicPr/>
          <p:nvPr/>
        </p:nvPicPr>
        <p:blipFill>
          <a:blip r:embed="rId2"/>
          <a:stretch/>
        </p:blipFill>
        <p:spPr>
          <a:xfrm>
            <a:off x="7848720" y="160200"/>
            <a:ext cx="1143000" cy="1059120"/>
          </a:xfrm>
          <a:prstGeom prst="rect">
            <a:avLst/>
          </a:prstGeom>
          <a:ln w="0">
            <a:noFill/>
          </a:ln>
        </p:spPr>
      </p:pic>
      <p:sp>
        <p:nvSpPr>
          <p:cNvPr id="473" name="Straight Connector 7"/>
          <p:cNvSpPr/>
          <p:nvPr/>
        </p:nvSpPr>
        <p:spPr>
          <a:xfrm>
            <a:off x="7696080" y="152280"/>
            <a:ext cx="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8"/>
          <p:cNvSpPr/>
          <p:nvPr/>
        </p:nvSpPr>
        <p:spPr>
          <a:xfrm>
            <a:off x="5939640" y="641520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aramond"/>
              </a:rPr>
              <a:t>..:: Kementerian Pelajaran Mala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288040" y="168120"/>
            <a:ext cx="239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. Pengurusan  Data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agi Sekolah-Seko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i Bawah K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7DFA-3743-4D9F-A17C-6B3250706730}" type="slidenum"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KPM-LOGO.jpg"/>
          <p:cNvPicPr/>
          <p:nvPr/>
        </p:nvPicPr>
        <p:blipFill>
          <a:blip r:embed="rId2"/>
          <a:stretch/>
        </p:blipFill>
        <p:spPr>
          <a:xfrm>
            <a:off x="7848720" y="160200"/>
            <a:ext cx="1143000" cy="1059120"/>
          </a:xfrm>
          <a:prstGeom prst="rect">
            <a:avLst/>
          </a:prstGeom>
          <a:ln w="0">
            <a:noFill/>
          </a:ln>
        </p:spPr>
      </p:pic>
      <p:sp>
        <p:nvSpPr>
          <p:cNvPr id="41" name="Straight Connector 7"/>
          <p:cNvSpPr/>
          <p:nvPr/>
        </p:nvSpPr>
        <p:spPr>
          <a:xfrm>
            <a:off x="7696080" y="152280"/>
            <a:ext cx="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939640" y="641520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aramond"/>
              </a:rPr>
              <a:t>..:: Kementerian Pelajaran Mala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5288040" y="168120"/>
            <a:ext cx="239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. Pengurusan  Data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agi Sekolah-Seko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i Bawah K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6184-CE3A-42E7-9F5E-9D7365870E0F}" type="slidenum"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KPM-LOGO.jpg"/>
          <p:cNvPicPr/>
          <p:nvPr/>
        </p:nvPicPr>
        <p:blipFill>
          <a:blip r:embed="rId2"/>
          <a:stretch/>
        </p:blipFill>
        <p:spPr>
          <a:xfrm>
            <a:off x="7848720" y="160200"/>
            <a:ext cx="1143000" cy="105912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7"/>
          <p:cNvSpPr/>
          <p:nvPr/>
        </p:nvSpPr>
        <p:spPr>
          <a:xfrm>
            <a:off x="7696080" y="152280"/>
            <a:ext cx="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939640" y="641520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aramond"/>
              </a:rPr>
              <a:t>..:: Kementerian Pelajaran Mala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5288040" y="168120"/>
            <a:ext cx="239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. Pengurusan  Data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agi Sekolah-Seko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i Bawah K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F268-1C82-44B6-B5DF-3D7DE34E78E9}" type="slidenum"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KPM-LOGO.jpg"/>
          <p:cNvPicPr/>
          <p:nvPr/>
        </p:nvPicPr>
        <p:blipFill>
          <a:blip r:embed="rId2"/>
          <a:stretch/>
        </p:blipFill>
        <p:spPr>
          <a:xfrm>
            <a:off x="7848720" y="160200"/>
            <a:ext cx="1143000" cy="10591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7"/>
          <p:cNvSpPr/>
          <p:nvPr/>
        </p:nvSpPr>
        <p:spPr>
          <a:xfrm>
            <a:off x="7696080" y="152280"/>
            <a:ext cx="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939640" y="641520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aramond"/>
              </a:rPr>
              <a:t>..:: Kementerian Pelajaran Mala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5288040" y="168120"/>
            <a:ext cx="239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. Pengurusan  Data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agi Sekolah-Seko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i Bawah K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3C37-00A0-4EBA-BF0A-089F02CD9E49}" type="slidenum"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KPM-LOGO.jpg"/>
          <p:cNvPicPr/>
          <p:nvPr/>
        </p:nvPicPr>
        <p:blipFill>
          <a:blip r:embed="rId2"/>
          <a:stretch/>
        </p:blipFill>
        <p:spPr>
          <a:xfrm>
            <a:off x="7848720" y="160200"/>
            <a:ext cx="1143000" cy="105912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7"/>
          <p:cNvSpPr/>
          <p:nvPr/>
        </p:nvSpPr>
        <p:spPr>
          <a:xfrm>
            <a:off x="7696080" y="152280"/>
            <a:ext cx="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939640" y="641520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aramond"/>
              </a:rPr>
              <a:t>..:: Kementerian Pelajaran Mala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5288040" y="168120"/>
            <a:ext cx="239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. Pengurusan  Data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agi Sekolah-Seko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i Bawah K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4274-9E9C-4687-B864-3E7306307640}" type="slidenum"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KPM-LOGO.jpg"/>
          <p:cNvPicPr/>
          <p:nvPr/>
        </p:nvPicPr>
        <p:blipFill>
          <a:blip r:embed="rId2"/>
          <a:stretch/>
        </p:blipFill>
        <p:spPr>
          <a:xfrm>
            <a:off x="7848720" y="160200"/>
            <a:ext cx="1143000" cy="105912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7"/>
          <p:cNvSpPr/>
          <p:nvPr/>
        </p:nvSpPr>
        <p:spPr>
          <a:xfrm>
            <a:off x="7696080" y="152280"/>
            <a:ext cx="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5939640" y="641520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aramond"/>
              </a:rPr>
              <a:t>..:: Kementerian Pelajaran Mala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5288040" y="168120"/>
            <a:ext cx="239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. Pengurusan  Data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agi Sekolah-Seko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i Bawah K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59FB-D3D1-4BC0-B322-B50734AA0F0D}" type="slidenum"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KPM-LOGO.jpg"/>
          <p:cNvPicPr/>
          <p:nvPr/>
        </p:nvPicPr>
        <p:blipFill>
          <a:blip r:embed="rId2"/>
          <a:stretch/>
        </p:blipFill>
        <p:spPr>
          <a:xfrm>
            <a:off x="7848720" y="160200"/>
            <a:ext cx="1143000" cy="1059120"/>
          </a:xfrm>
          <a:prstGeom prst="rect">
            <a:avLst/>
          </a:prstGeom>
          <a:ln w="0">
            <a:noFill/>
          </a:ln>
        </p:spPr>
      </p:pic>
      <p:sp>
        <p:nvSpPr>
          <p:cNvPr id="258" name="Straight Connector 7"/>
          <p:cNvSpPr/>
          <p:nvPr/>
        </p:nvSpPr>
        <p:spPr>
          <a:xfrm>
            <a:off x="7696080" y="152280"/>
            <a:ext cx="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5939640" y="641520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aramond"/>
              </a:rPr>
              <a:t>..:: Kementerian Pelajaran Mala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5288040" y="168120"/>
            <a:ext cx="239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. Pengurusan  Data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agi Sekolah-Seko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i Bawah K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29F6-876C-4523-AA69-621ED2C656FD}" type="slidenum"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KPM-LOGO.jpg"/>
          <p:cNvPicPr/>
          <p:nvPr/>
        </p:nvPicPr>
        <p:blipFill>
          <a:blip r:embed="rId2"/>
          <a:stretch/>
        </p:blipFill>
        <p:spPr>
          <a:xfrm>
            <a:off x="7848720" y="160200"/>
            <a:ext cx="1143000" cy="1059120"/>
          </a:xfrm>
          <a:prstGeom prst="rect">
            <a:avLst/>
          </a:prstGeom>
          <a:ln w="0">
            <a:noFill/>
          </a:ln>
        </p:spPr>
      </p:pic>
      <p:sp>
        <p:nvSpPr>
          <p:cNvPr id="301" name="Straight Connector 7"/>
          <p:cNvSpPr/>
          <p:nvPr/>
        </p:nvSpPr>
        <p:spPr>
          <a:xfrm>
            <a:off x="7696080" y="152280"/>
            <a:ext cx="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5939640" y="641520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aramond"/>
              </a:rPr>
              <a:t>..:: Kementerian Pelajaran Mala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5288040" y="168120"/>
            <a:ext cx="239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. Pengurusan  Data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agi Sekolah-Seko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i Bawah K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442C-6745-43CA-ADA5-8D9B52FEDA76}" type="slidenum"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6" descr="KPM-LOGO.jpg"/>
          <p:cNvPicPr/>
          <p:nvPr/>
        </p:nvPicPr>
        <p:blipFill>
          <a:blip r:embed="rId2"/>
          <a:stretch/>
        </p:blipFill>
        <p:spPr>
          <a:xfrm>
            <a:off x="7848720" y="160200"/>
            <a:ext cx="1143000" cy="1059120"/>
          </a:xfrm>
          <a:prstGeom prst="rect">
            <a:avLst/>
          </a:prstGeom>
          <a:ln w="0">
            <a:noFill/>
          </a:ln>
        </p:spPr>
      </p:pic>
      <p:sp>
        <p:nvSpPr>
          <p:cNvPr id="344" name="Straight Connector 7"/>
          <p:cNvSpPr/>
          <p:nvPr/>
        </p:nvSpPr>
        <p:spPr>
          <a:xfrm>
            <a:off x="7696080" y="152280"/>
            <a:ext cx="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8"/>
          <p:cNvSpPr/>
          <p:nvPr/>
        </p:nvSpPr>
        <p:spPr>
          <a:xfrm>
            <a:off x="5939640" y="641520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aramond"/>
              </a:rPr>
              <a:t>..:: Kementerian Pelajaran Mala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9"/>
          <p:cNvSpPr/>
          <p:nvPr/>
        </p:nvSpPr>
        <p:spPr>
          <a:xfrm>
            <a:off x="5288040" y="168120"/>
            <a:ext cx="239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. Pengurusan  Data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agi Sekolah-Seko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i Bawah K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C167-A8DD-4748-B013-73DCB5DA2303}" type="slidenum">
              <a:rPr b="0" lang="en-MY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7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3" descr="C:\Users\AzlinBTK\Documents\MukaDep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Periksa.JPG"/>
          <p:cNvPicPr/>
          <p:nvPr/>
        </p:nvPicPr>
        <p:blipFill>
          <a:blip r:embed="rId2"/>
          <a:stretch/>
        </p:blipFill>
        <p:spPr>
          <a:xfrm>
            <a:off x="5473800" y="4127400"/>
            <a:ext cx="1805040" cy="1401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sekolah1.jpg"/>
          <p:cNvPicPr/>
          <p:nvPr/>
        </p:nvPicPr>
        <p:blipFill>
          <a:blip r:embed="rId3"/>
          <a:stretch/>
        </p:blipFill>
        <p:spPr>
          <a:xfrm>
            <a:off x="7223040" y="4127400"/>
            <a:ext cx="1828800" cy="1401840"/>
          </a:xfrm>
          <a:prstGeom prst="rect">
            <a:avLst/>
          </a:prstGeom>
          <a:ln w="0">
            <a:noFill/>
          </a:ln>
        </p:spPr>
      </p:pic>
      <p:sp>
        <p:nvSpPr>
          <p:cNvPr id="525" name="TextBox 6"/>
          <p:cNvSpPr/>
          <p:nvPr/>
        </p:nvSpPr>
        <p:spPr>
          <a:xfrm>
            <a:off x="4269600" y="1316160"/>
            <a:ext cx="1352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Brush Script MT"/>
              </a:rPr>
              <a:t>T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5392800" y="2306520"/>
            <a:ext cx="360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Arial"/>
              </a:rPr>
              <a:t>AKLI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9" descr="Online1.jpg"/>
          <p:cNvPicPr/>
          <p:nvPr/>
        </p:nvPicPr>
        <p:blipFill>
          <a:blip r:embed="rId4"/>
          <a:stretch/>
        </p:blipFill>
        <p:spPr>
          <a:xfrm>
            <a:off x="7223040" y="5419800"/>
            <a:ext cx="1811520" cy="1401840"/>
          </a:xfrm>
          <a:prstGeom prst="rect">
            <a:avLst/>
          </a:prstGeom>
          <a:ln w="0">
            <a:noFill/>
          </a:ln>
        </p:spPr>
      </p:pic>
      <p:sp>
        <p:nvSpPr>
          <p:cNvPr id="528" name="TextBox 11"/>
          <p:cNvSpPr/>
          <p:nvPr/>
        </p:nvSpPr>
        <p:spPr>
          <a:xfrm>
            <a:off x="4952160" y="3276720"/>
            <a:ext cx="41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 BLANCA"/>
              </a:rPr>
              <a:t>PENGURUSAN DATA MU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239400" y="633564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 JULAI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3"/>
          <p:cNvSpPr/>
          <p:nvPr/>
        </p:nvSpPr>
        <p:spPr>
          <a:xfrm>
            <a:off x="398880" y="990720"/>
            <a:ext cx="30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9b74"/>
                </a:solidFill>
                <a:latin typeface="Arial Rounded MT Bold"/>
              </a:rPr>
              <a:t>PERLAKSAN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304920" y="2209680"/>
            <a:ext cx="3429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kasi baru dibina mesti mengambil kira pangkalan data terse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S akan mewujudkan wi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5" descr="HT2492-Lion-DashBoard-002-en.png"/>
          <p:cNvPicPr/>
          <p:nvPr/>
        </p:nvPicPr>
        <p:blipFill>
          <a:blip r:embed="rId1"/>
          <a:stretch/>
        </p:blipFill>
        <p:spPr>
          <a:xfrm>
            <a:off x="3962520" y="2209680"/>
            <a:ext cx="4998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3"/>
          <p:cNvSpPr/>
          <p:nvPr/>
        </p:nvSpPr>
        <p:spPr>
          <a:xfrm>
            <a:off x="2726640" y="320040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9b74"/>
                </a:solidFill>
                <a:latin typeface="Arial Rounded MT Bold"/>
              </a:rPr>
              <a:t>Terima Kas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4"/>
          <p:cNvSpPr/>
          <p:nvPr/>
        </p:nvSpPr>
        <p:spPr>
          <a:xfrm>
            <a:off x="325080" y="145728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9b74"/>
                </a:solidFill>
                <a:latin typeface="Arial Rounded MT Bold"/>
              </a:rPr>
              <a:t>APD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5"/>
          <p:cNvSpPr/>
          <p:nvPr/>
        </p:nvSpPr>
        <p:spPr>
          <a:xfrm>
            <a:off x="380880" y="23623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9b74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ikasi </a:t>
            </a:r>
            <a:r>
              <a:rPr b="1" lang="en-US" sz="2800" spc="-1" strike="noStrike">
                <a:solidFill>
                  <a:srgbClr val="0c9b74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kalan </a:t>
            </a:r>
            <a:r>
              <a:rPr b="1" lang="en-US" sz="2800" spc="-1" strike="noStrike">
                <a:solidFill>
                  <a:srgbClr val="0c9b74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a </a:t>
            </a:r>
            <a:r>
              <a:rPr b="1" lang="en-US" sz="2800" spc="-1" strike="noStrike">
                <a:solidFill>
                  <a:srgbClr val="0c9b74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Box 3"/>
          <p:cNvSpPr/>
          <p:nvPr/>
        </p:nvSpPr>
        <p:spPr>
          <a:xfrm>
            <a:off x="347400" y="990720"/>
            <a:ext cx="50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9b74"/>
                </a:solidFill>
                <a:latin typeface="Arial Rounded MT Bold"/>
              </a:rPr>
              <a:t>PENGURUSAN DATA MU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304920" y="1828800"/>
            <a:ext cx="8534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daftaran Kanak-Kanak Ke Tah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ekolahan Waj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 For All (E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karan Mu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empatan Ke Tingkatan Satu, Tingkatan Empat dan Tingkatan E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garan Belanja Mengurus (AB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3"/>
          <p:cNvSpPr/>
          <p:nvPr/>
        </p:nvSpPr>
        <p:spPr>
          <a:xfrm>
            <a:off x="462960" y="990720"/>
            <a:ext cx="42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9b74"/>
                </a:solidFill>
                <a:latin typeface="Arial Rounded MT Bold"/>
              </a:rPr>
              <a:t>KEPERLUAN SEKA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304920" y="1828800"/>
            <a:ext cx="73911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kasi Yang Dibangunkan Bersendi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PS (Data Murid Tahun 2 – Tingkatan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PBS (Data Murid Tahun Sa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MMBI (Tahun 1 – Tingkatan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Lerning Enviroment (VLE) Di Bawah Komponen 1Bestar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DM dan EDisip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ensi D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304200" y="99072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9b74"/>
                </a:solidFill>
                <a:latin typeface="Arial Rounded MT Bold"/>
              </a:rPr>
              <a:t>BAGAIMANA APDM DIBANGUN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5" descr="DBIcon.jpg"/>
          <p:cNvPicPr/>
          <p:nvPr/>
        </p:nvPicPr>
        <p:blipFill>
          <a:blip r:embed="rId1"/>
          <a:stretch/>
        </p:blipFill>
        <p:spPr>
          <a:xfrm>
            <a:off x="990720" y="198108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DBIcon.jpg"/>
          <p:cNvPicPr/>
          <p:nvPr/>
        </p:nvPicPr>
        <p:blipFill>
          <a:blip r:embed="rId2"/>
          <a:stretch/>
        </p:blipFill>
        <p:spPr>
          <a:xfrm>
            <a:off x="3809880" y="19810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DBIcon.jpg"/>
          <p:cNvPicPr/>
          <p:nvPr/>
        </p:nvPicPr>
        <p:blipFill>
          <a:blip r:embed="rId3"/>
          <a:stretch/>
        </p:blipFill>
        <p:spPr>
          <a:xfrm>
            <a:off x="6629400" y="198108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540" name="TextBox 8"/>
          <p:cNvSpPr/>
          <p:nvPr/>
        </p:nvSpPr>
        <p:spPr>
          <a:xfrm>
            <a:off x="1224360" y="3059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9"/>
          <p:cNvSpPr/>
          <p:nvPr/>
        </p:nvSpPr>
        <p:spPr>
          <a:xfrm>
            <a:off x="3891960" y="3048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P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0"/>
          <p:cNvSpPr/>
          <p:nvPr/>
        </p:nvSpPr>
        <p:spPr>
          <a:xfrm>
            <a:off x="6862680" y="3048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1"/>
          <p:cNvSpPr/>
          <p:nvPr/>
        </p:nvSpPr>
        <p:spPr>
          <a:xfrm>
            <a:off x="1219320" y="3809880"/>
            <a:ext cx="640080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fil Murid Dari SAPS &amp; PBS. Profil Penjaga Dari S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2" descr="database.jpg"/>
          <p:cNvPicPr/>
          <p:nvPr/>
        </p:nvPicPr>
        <p:blipFill>
          <a:blip r:embed="rId4"/>
          <a:stretch/>
        </p:blipFill>
        <p:spPr>
          <a:xfrm>
            <a:off x="3809880" y="4724280"/>
            <a:ext cx="1333800" cy="13338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3" descr="Oracle 11g.jpg"/>
          <p:cNvPicPr/>
          <p:nvPr/>
        </p:nvPicPr>
        <p:blipFill>
          <a:blip r:embed="rId5"/>
          <a:stretch/>
        </p:blipFill>
        <p:spPr>
          <a:xfrm>
            <a:off x="5715000" y="5638680"/>
            <a:ext cx="1866960" cy="590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4" descr="php.jpg"/>
          <p:cNvPicPr/>
          <p:nvPr/>
        </p:nvPicPr>
        <p:blipFill>
          <a:blip r:embed="rId6"/>
          <a:stretch/>
        </p:blipFill>
        <p:spPr>
          <a:xfrm>
            <a:off x="5715000" y="4495680"/>
            <a:ext cx="1247760" cy="6559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5"/>
          <p:cNvSpPr/>
          <p:nvPr/>
        </p:nvSpPr>
        <p:spPr>
          <a:xfrm>
            <a:off x="6251760" y="51814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6"/>
          <p:cNvSpPr/>
          <p:nvPr/>
        </p:nvSpPr>
        <p:spPr>
          <a:xfrm>
            <a:off x="2672280" y="53341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Down Arrow 17"/>
          <p:cNvSpPr/>
          <p:nvPr/>
        </p:nvSpPr>
        <p:spPr>
          <a:xfrm>
            <a:off x="1600200" y="350532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Down Arrow 18"/>
          <p:cNvSpPr/>
          <p:nvPr/>
        </p:nvSpPr>
        <p:spPr>
          <a:xfrm>
            <a:off x="4343400" y="350532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Down Arrow 19"/>
          <p:cNvSpPr/>
          <p:nvPr/>
        </p:nvSpPr>
        <p:spPr>
          <a:xfrm>
            <a:off x="7086600" y="350532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Down Arrow 20"/>
          <p:cNvSpPr/>
          <p:nvPr/>
        </p:nvSpPr>
        <p:spPr>
          <a:xfrm>
            <a:off x="4343400" y="441972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peo[ple.jpg"/>
          <p:cNvPicPr/>
          <p:nvPr/>
        </p:nvPicPr>
        <p:blipFill>
          <a:blip r:embed="rId1"/>
          <a:stretch/>
        </p:blipFill>
        <p:spPr>
          <a:xfrm>
            <a:off x="4533840" y="415296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keyin.jpg"/>
          <p:cNvPicPr/>
          <p:nvPr/>
        </p:nvPicPr>
        <p:blipFill>
          <a:blip r:embed="rId2"/>
          <a:stretch/>
        </p:blipFill>
        <p:spPr>
          <a:xfrm>
            <a:off x="4495680" y="1981080"/>
            <a:ext cx="1974960" cy="16002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3"/>
          <p:cNvSpPr/>
          <p:nvPr/>
        </p:nvSpPr>
        <p:spPr>
          <a:xfrm>
            <a:off x="201600" y="990720"/>
            <a:ext cx="56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9b74"/>
                </a:solidFill>
                <a:latin typeface="Arial Rounded MT Bold"/>
              </a:rPr>
              <a:t>AP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9b74"/>
                </a:solidFill>
                <a:latin typeface="Arial Rounded MT Bold"/>
              </a:rPr>
              <a:t>Aplikasi Pangkalan Data Mu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"/>
          <p:cNvSpPr/>
          <p:nvPr/>
        </p:nvSpPr>
        <p:spPr>
          <a:xfrm>
            <a:off x="6400800" y="4114800"/>
            <a:ext cx="1828800" cy="2043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njaga Per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N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ekerj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njaga Ked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N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ekerj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6381720" y="1981080"/>
            <a:ext cx="1867320" cy="1615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il Mu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Nama Mu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Ke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la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aklumat 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8" descr="database.jpg"/>
          <p:cNvPicPr/>
          <p:nvPr/>
        </p:nvPicPr>
        <p:blipFill>
          <a:blip r:embed="rId3"/>
          <a:stretch/>
        </p:blipFill>
        <p:spPr>
          <a:xfrm>
            <a:off x="1371600" y="32004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59" name="TextBox 9" descr=""/>
          <p:cNvPicPr/>
          <p:nvPr/>
        </p:nvPicPr>
        <p:blipFill>
          <a:blip r:embed="rId4"/>
          <a:stretch/>
        </p:blipFill>
        <p:spPr>
          <a:xfrm>
            <a:off x="3376440" y="2097000"/>
            <a:ext cx="762120" cy="4224600"/>
          </a:xfrm>
          <a:prstGeom prst="rect">
            <a:avLst/>
          </a:prstGeom>
          <a:ln w="0">
            <a:noFill/>
          </a:ln>
        </p:spPr>
      </p:pic>
      <p:sp>
        <p:nvSpPr>
          <p:cNvPr id="560" name="Right Arrow 10"/>
          <p:cNvSpPr/>
          <p:nvPr/>
        </p:nvSpPr>
        <p:spPr>
          <a:xfrm>
            <a:off x="2895480" y="3809880"/>
            <a:ext cx="381240" cy="1526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11"/>
          <p:cNvSpPr/>
          <p:nvPr/>
        </p:nvSpPr>
        <p:spPr>
          <a:xfrm>
            <a:off x="4114800" y="5257800"/>
            <a:ext cx="380880" cy="1522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2"/>
          <p:cNvSpPr/>
          <p:nvPr/>
        </p:nvSpPr>
        <p:spPr>
          <a:xfrm>
            <a:off x="4114800" y="2666880"/>
            <a:ext cx="380880" cy="15264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DBIcon.jpg"/>
          <p:cNvPicPr/>
          <p:nvPr/>
        </p:nvPicPr>
        <p:blipFill>
          <a:blip r:embed="rId1"/>
          <a:stretch/>
        </p:blipFill>
        <p:spPr>
          <a:xfrm>
            <a:off x="990720" y="46483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DBIcon.jpg"/>
          <p:cNvPicPr/>
          <p:nvPr/>
        </p:nvPicPr>
        <p:blipFill>
          <a:blip r:embed="rId2"/>
          <a:stretch/>
        </p:blipFill>
        <p:spPr>
          <a:xfrm>
            <a:off x="22096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DBIcon.jpg"/>
          <p:cNvPicPr/>
          <p:nvPr/>
        </p:nvPicPr>
        <p:blipFill>
          <a:blip r:embed="rId3"/>
          <a:stretch/>
        </p:blipFill>
        <p:spPr>
          <a:xfrm>
            <a:off x="3429000" y="4648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6"/>
          <p:cNvSpPr/>
          <p:nvPr/>
        </p:nvSpPr>
        <p:spPr>
          <a:xfrm>
            <a:off x="1224360" y="5726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7"/>
          <p:cNvSpPr/>
          <p:nvPr/>
        </p:nvSpPr>
        <p:spPr>
          <a:xfrm>
            <a:off x="2291760" y="5715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P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8"/>
          <p:cNvSpPr/>
          <p:nvPr/>
        </p:nvSpPr>
        <p:spPr>
          <a:xfrm>
            <a:off x="3437280" y="57150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T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762120" y="3429000"/>
            <a:ext cx="739116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fil Murid Dari SAPS &amp; PBS. Profil Penjaga Dari S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" descr="database.jpg"/>
          <p:cNvPicPr/>
          <p:nvPr/>
        </p:nvPicPr>
        <p:blipFill>
          <a:blip r:embed="rId4"/>
          <a:stretch/>
        </p:blipFill>
        <p:spPr>
          <a:xfrm>
            <a:off x="3695760" y="161928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1" descr="Oracle 11g.jpg"/>
          <p:cNvPicPr/>
          <p:nvPr/>
        </p:nvPicPr>
        <p:blipFill>
          <a:blip r:embed="rId5"/>
          <a:stretch/>
        </p:blipFill>
        <p:spPr>
          <a:xfrm>
            <a:off x="5600880" y="2610000"/>
            <a:ext cx="1866600" cy="590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2" descr="php.jpg"/>
          <p:cNvPicPr/>
          <p:nvPr/>
        </p:nvPicPr>
        <p:blipFill>
          <a:blip r:embed="rId6"/>
          <a:stretch/>
        </p:blipFill>
        <p:spPr>
          <a:xfrm>
            <a:off x="5600880" y="1390680"/>
            <a:ext cx="1247760" cy="65556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3"/>
          <p:cNvSpPr/>
          <p:nvPr/>
        </p:nvSpPr>
        <p:spPr>
          <a:xfrm>
            <a:off x="6137640" y="20764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4"/>
          <p:cNvSpPr/>
          <p:nvPr/>
        </p:nvSpPr>
        <p:spPr>
          <a:xfrm>
            <a:off x="2558160" y="2228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Down Arrow 15"/>
          <p:cNvSpPr/>
          <p:nvPr/>
        </p:nvSpPr>
        <p:spPr>
          <a:xfrm>
            <a:off x="1600200" y="411480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Down Arrow 16"/>
          <p:cNvSpPr/>
          <p:nvPr/>
        </p:nvSpPr>
        <p:spPr>
          <a:xfrm>
            <a:off x="2743200" y="411480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Down Arrow 17"/>
          <p:cNvSpPr/>
          <p:nvPr/>
        </p:nvSpPr>
        <p:spPr>
          <a:xfrm>
            <a:off x="3886200" y="411480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Down Arrow 18"/>
          <p:cNvSpPr/>
          <p:nvPr/>
        </p:nvSpPr>
        <p:spPr>
          <a:xfrm>
            <a:off x="4229280" y="304812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9" descr="DBIcon.jpg"/>
          <p:cNvPicPr/>
          <p:nvPr/>
        </p:nvPicPr>
        <p:blipFill>
          <a:blip r:embed="rId7"/>
          <a:stretch/>
        </p:blipFill>
        <p:spPr>
          <a:xfrm>
            <a:off x="4618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0" descr="DBIcon.jpg"/>
          <p:cNvPicPr/>
          <p:nvPr/>
        </p:nvPicPr>
        <p:blipFill>
          <a:blip r:embed="rId8"/>
          <a:stretch/>
        </p:blipFill>
        <p:spPr>
          <a:xfrm>
            <a:off x="5837400" y="46483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1" descr="DBIcon.jpg"/>
          <p:cNvPicPr/>
          <p:nvPr/>
        </p:nvPicPr>
        <p:blipFill>
          <a:blip r:embed="rId9"/>
          <a:stretch/>
        </p:blipFill>
        <p:spPr>
          <a:xfrm>
            <a:off x="7056360" y="4648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22"/>
          <p:cNvSpPr/>
          <p:nvPr/>
        </p:nvSpPr>
        <p:spPr>
          <a:xfrm>
            <a:off x="4852800" y="572616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3"/>
          <p:cNvSpPr/>
          <p:nvPr/>
        </p:nvSpPr>
        <p:spPr>
          <a:xfrm>
            <a:off x="5920200" y="57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4"/>
          <p:cNvSpPr/>
          <p:nvPr/>
        </p:nvSpPr>
        <p:spPr>
          <a:xfrm>
            <a:off x="7021440" y="57150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OHO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Down Arrow 25"/>
          <p:cNvSpPr/>
          <p:nvPr/>
        </p:nvSpPr>
        <p:spPr>
          <a:xfrm>
            <a:off x="5227560" y="411480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Down Arrow 26"/>
          <p:cNvSpPr/>
          <p:nvPr/>
        </p:nvSpPr>
        <p:spPr>
          <a:xfrm>
            <a:off x="6370560" y="411480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Down Arrow 27"/>
          <p:cNvSpPr/>
          <p:nvPr/>
        </p:nvSpPr>
        <p:spPr>
          <a:xfrm>
            <a:off x="7513560" y="411480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8"/>
          <p:cNvSpPr/>
          <p:nvPr/>
        </p:nvSpPr>
        <p:spPr>
          <a:xfrm>
            <a:off x="241560" y="83808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9b74"/>
                </a:solidFill>
                <a:latin typeface="Arial Rounded MT Bold"/>
              </a:rPr>
              <a:t>APDM SEKA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3"/>
          <p:cNvSpPr/>
          <p:nvPr/>
        </p:nvSpPr>
        <p:spPr>
          <a:xfrm>
            <a:off x="306720" y="990720"/>
            <a:ext cx="25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9b74"/>
                </a:solidFill>
                <a:latin typeface="Arial Rounded MT Bold"/>
              </a:rPr>
              <a:t>ALIRA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Diagram 5" descr=""/>
          <p:cNvPicPr/>
          <p:nvPr/>
        </p:nvPicPr>
        <p:blipFill>
          <a:blip r:embed="rId1"/>
          <a:stretch/>
        </p:blipFill>
        <p:spPr>
          <a:xfrm>
            <a:off x="444600" y="2664000"/>
            <a:ext cx="8339040" cy="1841400"/>
          </a:xfrm>
          <a:prstGeom prst="rect">
            <a:avLst/>
          </a:prstGeom>
          <a:ln w="0">
            <a:noFill/>
          </a:ln>
        </p:spPr>
      </p:pic>
      <p:sp>
        <p:nvSpPr>
          <p:cNvPr id="591" name="Down Arrow 6"/>
          <p:cNvSpPr/>
          <p:nvPr/>
        </p:nvSpPr>
        <p:spPr>
          <a:xfrm rot="10800000">
            <a:off x="685800" y="4114800"/>
            <a:ext cx="457200" cy="137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Down Arrow 7"/>
          <p:cNvSpPr/>
          <p:nvPr/>
        </p:nvSpPr>
        <p:spPr>
          <a:xfrm rot="10800000">
            <a:off x="3429000" y="4114800"/>
            <a:ext cx="457200" cy="137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Down Arrow 8"/>
          <p:cNvSpPr/>
          <p:nvPr/>
        </p:nvSpPr>
        <p:spPr>
          <a:xfrm rot="10800000">
            <a:off x="6248520" y="4114800"/>
            <a:ext cx="457200" cy="137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9"/>
          <p:cNvSpPr/>
          <p:nvPr/>
        </p:nvSpPr>
        <p:spPr>
          <a:xfrm>
            <a:off x="392040" y="58672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aftar Rend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0"/>
          <p:cNvSpPr/>
          <p:nvPr/>
        </p:nvSpPr>
        <p:spPr>
          <a:xfrm>
            <a:off x="3394440" y="5867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aftar Meneng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1"/>
          <p:cNvSpPr/>
          <p:nvPr/>
        </p:nvSpPr>
        <p:spPr>
          <a:xfrm>
            <a:off x="6302160" y="586728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aftar Ting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538920" y="251460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ekolahan Wajib / E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398880" y="990720"/>
            <a:ext cx="30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9b74"/>
                </a:solidFill>
                <a:latin typeface="Arial Rounded MT Bold"/>
              </a:rPr>
              <a:t>PERLAKSAN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4"/>
          <p:cNvSpPr/>
          <p:nvPr/>
        </p:nvSpPr>
        <p:spPr>
          <a:xfrm>
            <a:off x="457200" y="1905120"/>
            <a:ext cx="73915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wujudkan Sistem Pengurusan Sekolah Di Bawah 1Bestari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wujudkan Data Pendidikan U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ngkalan Data Seko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D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ngkalan Data Mu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M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ngkalan Data G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0:21:35Z</dcterms:created>
  <dc:creator>AzlinBTK</dc:creator>
  <dc:description/>
  <dc:language>en-US</dc:language>
  <cp:lastModifiedBy>user</cp:lastModifiedBy>
  <dcterms:modified xsi:type="dcterms:W3CDTF">2012-08-25T23:34:02Z</dcterms:modified>
  <cp:revision>28</cp:revision>
  <dc:subject/>
  <dc:title>Slide 1</dc:title>
</cp:coreProperties>
</file>