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1C47-5ED0-4762-9442-DBA91DB504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6266-0C0F-417F-A58E-A8890B5F4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FB44-0F18-4238-A819-300187BBAE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3852720" y="938196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8CD01-6EB2-4447-9D2A-C251697AAC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2013120" y="743040"/>
            <a:ext cx="27730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06480" y="4692600"/>
            <a:ext cx="49845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5AB7-C74B-4037-8707-319B178699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672B-A66B-4760-AFEA-211AF00311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0C79-8202-4F20-B57B-35E84EBA15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62CE-F6E4-43F0-9E3A-74E880D7AC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7F73-4419-4D5E-9C65-34FFA9F883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031B-6297-4417-9A0E-CB9271209F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9063-C39C-402C-8C4A-DB095FD0BF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BBD8-E68F-48F0-A7A4-65CE54A26C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ECB3-25F8-41C0-91EE-0EF4B30930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08E6-C44C-44A4-91DD-2A93001D95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6769-80C1-4A63-9133-B5B3A7714C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A312-7A40-4732-9F0A-04974DA97C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C650-A165-4B6D-9926-A6B4A553E6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0018-0DE7-43A8-AC8D-79E208236B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3A50-97D1-4808-8893-FF2B5B3425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B00B-C3AB-4A70-AEF3-5EE86837BA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42E7-2E00-48B4-9D65-82F259E525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90DA-E7E6-4413-B853-A820A50752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9C7B-01BA-4A62-A73C-0861CBFBCA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8F5A-3E9F-439F-A31E-0026600EB0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B4E1-DB5E-4882-9FD8-3175596CCF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AC65-451A-448B-8DEF-86F8811DD1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E343-4D2B-4F2B-898C-237F3B7024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F508-2048-40E8-BD1F-B0F30841BE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75E6-E44A-481B-96B9-7C407FFA2A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BED2-63E1-4B73-8B2E-075AB3D831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BC2-22B3-4C6D-9695-196641F4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A48-3ABA-44FA-A8E1-F2F58295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B31-30EF-468E-A048-E1AF07C3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4FE-5698-403B-A99D-4D7E0227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5D1B-60D4-4D0A-82B9-B9145B05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9862-4ADD-4D14-B90F-B4530D69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A638-D8A3-45AD-B17D-6D70ED55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2A3E-6ADA-44C9-B9BB-6F10BC7B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6DD7-082B-4FA2-BC78-98833653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1CFF-144C-442E-99E3-9092D40F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8598-EB00-4842-8860-F70CAD9C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A35-9049-46D9-8CEA-C7856F30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EC8C-4F48-4789-A70D-5C79E50D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EAFB-6E54-41B6-9F52-BF30C2B2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3A58-C403-473D-A726-F50A784D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166E-DDAA-4BE5-BDEA-4F8C5520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2D4C-76CD-4604-B4A7-15526D5D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FED-3368-4FA5-BED8-4B310086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E9B-6889-4A58-A2CA-E8B51AB3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F451-4C6D-410D-B089-9E0F7846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904-AC50-4801-B51B-2D20FCDA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1AE-3137-490B-91A8-35215E7A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949-E32F-4192-ABE8-8D840253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25E-B78C-4159-82AA-58B2D96E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5D4F-5436-4934-AB18-663B0D2C462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7B81-7146-46E0-870E-1E532131B34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00D0-3798-4211-9AB4-DBAB615C0CBB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914C-33AF-4A0B-A486-48A96F56D8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maklumbalas@anm.gov.my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m.gov.my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hyperlink" Target="http://www.anm.gov.my/" TargetMode="External"/><Relationship Id="rId4" Type="http://schemas.openxmlformats.org/officeDocument/2006/relationships/hyperlink" Target="http://www.anm.gov.my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DD48-F54B-4E33-B53D-039F82532F1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3124080" y="6248520"/>
            <a:ext cx="3810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  <a:ea typeface="MS Gothic"/>
              </a:rPr>
              <a:t>Sistem  ePenyata Gaji &amp; eLapor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993F1-E9FA-4DD2-8644-D2B5DB9CEDCD}" type="slidenum">
              <a:rPr b="0" lang="en-GB" sz="1400" spc="-1" strike="noStrike">
                <a:solidFill>
                  <a:srgbClr val="000000"/>
                </a:solidFill>
                <a:latin typeface="Verdana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80880" y="1371600"/>
            <a:ext cx="9905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91440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pperplate Gothic Bold"/>
              </a:rPr>
              <a:t>Jabatan Akauntan Negara Malaysi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pperplate Gothic Bold"/>
              </a:rPr>
              <a:t>Negeri TERENGGAN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9671-2327-45EB-BC5B-788150B0E83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883908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457200" y="3809880"/>
            <a:ext cx="556560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ERANAN PENGGUN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DAN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AKSES MAKLU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Picture 10" descr="j0301252"/>
          <p:cNvPicPr/>
          <p:nvPr/>
        </p:nvPicPr>
        <p:blipFill>
          <a:blip r:embed="rId1"/>
          <a:stretch/>
        </p:blipFill>
        <p:spPr>
          <a:xfrm>
            <a:off x="4724280" y="1523880"/>
            <a:ext cx="3732480" cy="2898720"/>
          </a:xfrm>
          <a:prstGeom prst="rect">
            <a:avLst/>
          </a:prstGeom>
          <a:ln w="0">
            <a:noFill/>
          </a:ln>
        </p:spPr>
      </p:pic>
      <p:sp>
        <p:nvSpPr>
          <p:cNvPr id="221" name="Line 5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Line 3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1FE5-B198-449C-B0BC-FE4A8D16F73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990720" y="4848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05120" cy="990720"/>
          </a:xfrm>
          <a:prstGeom prst="rect">
            <a:avLst/>
          </a:prstGeom>
          <a:ln w="9360">
            <a:solidFill>
              <a:srgbClr val="003b76"/>
            </a:solidFill>
            <a:miter/>
          </a:ln>
        </p:spPr>
      </p:pic>
      <p:sp>
        <p:nvSpPr>
          <p:cNvPr id="227" name="Rectangle 5"/>
          <p:cNvSpPr/>
          <p:nvPr/>
        </p:nvSpPr>
        <p:spPr>
          <a:xfrm>
            <a:off x="2133720" y="152280"/>
            <a:ext cx="6781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ANAN PENGGUNA DA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SES MAKLU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80880" y="18288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9" name="Object 2"/>
          <p:cNvGraphicFramePr/>
          <p:nvPr/>
        </p:nvGraphicFramePr>
        <p:xfrm>
          <a:off x="304920" y="1447920"/>
          <a:ext cx="8661240" cy="485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447920"/>
                    <a:ext cx="866124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CBD0-65B1-4F97-95D6-8DDF0ECF1C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05120" cy="990720"/>
          </a:xfrm>
          <a:prstGeom prst="rect">
            <a:avLst/>
          </a:prstGeom>
          <a:ln w="9360">
            <a:solidFill>
              <a:srgbClr val="003b76"/>
            </a:solidFill>
            <a:miter/>
          </a:ln>
        </p:spPr>
      </p:pic>
      <p:sp>
        <p:nvSpPr>
          <p:cNvPr id="233" name="Rectangle 5"/>
          <p:cNvSpPr/>
          <p:nvPr/>
        </p:nvSpPr>
        <p:spPr>
          <a:xfrm>
            <a:off x="2133720" y="152280"/>
            <a:ext cx="6781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ANAN PENGGUNA DA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SES MAKLU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28600" y="1600200"/>
            <a:ext cx="8686800" cy="4830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jabat Perakaun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anan Pentadbir Sistem Pejabat Perakaun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makluman maklumat Spool Melalui SOLM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sat Pembayar Gaj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at Turun Penyata Gaji dan Laporan Gaji Mengikut Pusat Pembay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TJ Membay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at Turun Laporan Siri C Mengikut PTJ Membay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divid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at Turun Penyata Gaji  Sendi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C30D-94E2-4800-B85A-D7BC61C4A55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Line 3"/>
          <p:cNvSpPr/>
          <p:nvPr/>
        </p:nvSpPr>
        <p:spPr>
          <a:xfrm>
            <a:off x="86868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Picture 6" descr="j0300520"/>
          <p:cNvPicPr/>
          <p:nvPr/>
        </p:nvPicPr>
        <p:blipFill>
          <a:blip r:embed="rId1"/>
          <a:stretch/>
        </p:blipFill>
        <p:spPr>
          <a:xfrm>
            <a:off x="533520" y="2209680"/>
            <a:ext cx="2252520" cy="2152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2776680" y="2166840"/>
            <a:ext cx="5565600" cy="213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ERANAN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ENTADBIR SISTE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lantik oleh Pejabat Perakaun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yelenggara sistem di peringkat Pejabat Perakaun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astikan Pusat Pembayar Gaji dan PTJ mengisi borang SP/ANM/3/2010/01 – Borang Permohonan Akses / Pembatalan Akses Sistem ePenyata Gaji dan eLapor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gemaskini permohonan / pembatalan akses ke dalam sist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astikan Penyata Gaji Bulanan dijana melalui sistem GFMAS selewat lewatnya 7 hari sebelum tarikh pembayaran gaj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7FD8-9ECD-4870-A060-6369FDE1CE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990720" y="4848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1676520" cy="762120"/>
          </a:xfrm>
          <a:prstGeom prst="rect">
            <a:avLst/>
          </a:prstGeom>
          <a:ln w="9360">
            <a:solidFill>
              <a:srgbClr val="003b76"/>
            </a:solidFill>
            <a:miter/>
          </a:ln>
        </p:spPr>
      </p:pic>
      <p:sp>
        <p:nvSpPr>
          <p:cNvPr id="247" name="Rectangle 5"/>
          <p:cNvSpPr/>
          <p:nvPr/>
        </p:nvSpPr>
        <p:spPr>
          <a:xfrm>
            <a:off x="2133720" y="457200"/>
            <a:ext cx="6553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ANAN PENTADBIR SI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b…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astikan Laporan Bulanan dijana tidak lewat 5 hari bulan pada setiap bul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astikan Penyata Pendapatan Tahunan dijana mengikut arahan yang dikeluarkan oleh BPOP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astikan Pusat Pembayar Gaji / PTJ mencetak Penyata Gaji, Laporan bulanan dan Penyata Pendapatan Tahunan melalui sist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buat semakan ke atas senarai maklumat pegawai yang dipertanggungjawabkan sebagai Pusat Pembayar Gaji / PTJ dan senarai tersebut adalah sama seperti di BORANG PERMOHON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7516-FB04-49D3-A298-39DCFE17F37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1676520" cy="762120"/>
          </a:xfrm>
          <a:prstGeom prst="rect">
            <a:avLst/>
          </a:prstGeom>
          <a:ln w="9360">
            <a:solidFill>
              <a:srgbClr val="003b76"/>
            </a:solidFill>
            <a:miter/>
          </a:ln>
        </p:spPr>
      </p:pic>
      <p:sp>
        <p:nvSpPr>
          <p:cNvPr id="252" name="Rectangle 5"/>
          <p:cNvSpPr/>
          <p:nvPr/>
        </p:nvSpPr>
        <p:spPr>
          <a:xfrm>
            <a:off x="2133720" y="457200"/>
            <a:ext cx="6553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ANAN PENTADBIR SI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C4CD-77AF-4FE0-8D4D-556C038FC4E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776680" y="2166840"/>
            <a:ext cx="5565600" cy="213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ERANAN PUSAT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EMBAYAR GAJI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86868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9" name="Picture 8" descr="j0300520"/>
          <p:cNvPicPr/>
          <p:nvPr/>
        </p:nvPicPr>
        <p:blipFill>
          <a:blip r:embed="rId1"/>
          <a:stretch/>
        </p:blipFill>
        <p:spPr>
          <a:xfrm>
            <a:off x="533520" y="2162160"/>
            <a:ext cx="2252520" cy="2152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j0300520"/>
          <p:cNvPicPr/>
          <p:nvPr/>
        </p:nvPicPr>
        <p:blipFill>
          <a:blip r:embed="rId2"/>
          <a:stretch/>
        </p:blipFill>
        <p:spPr>
          <a:xfrm>
            <a:off x="533520" y="2209680"/>
            <a:ext cx="225252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tua PTJ perlu melantik pegawai di Pusat Pembayar Gaji untuk mencetak atau muat turu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# Penyata Gaji bulan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# Laporan Gaji bulan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# Penyata Pendapatan Tahun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yimpan salinan pejabat secara bercetak (hardcopy) atau softcop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aklumkan kepada semua pengguna individu mengenai tanggungjawab ke atas sist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maklumkan secara bertulis maklumat nombor gaji kepada penjawat awam yang baru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B1DD-23D5-473D-A9B3-78137C7BB80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90476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265" name="Rectangle 5"/>
          <p:cNvSpPr/>
          <p:nvPr/>
        </p:nvSpPr>
        <p:spPr>
          <a:xfrm>
            <a:off x="2209680" y="457200"/>
            <a:ext cx="655344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PERANAN PUSAT PEMBAYAR GAJ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b…………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gawai yang dilantik / dibatal akses perlu mengemukakan permohonan kepada Pentadbir Sistem Pejabat Perakaunan bagi mendapatkan kelulusan melalui borang SP/ANM/3/2010/01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gawai yang dilantik perlu memperbaharui tempoh sah peranan di dalam sistem setiap 3 bulan sekal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ghubungi Pentadbir Sistem Pejabat Perakaunan jika terdapat sebarang pertanya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0E2D-2EC4-4D8D-8E0E-2110923235B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228600" y="471600"/>
            <a:ext cx="1905120" cy="7617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5"/>
          <p:cNvSpPr/>
          <p:nvPr/>
        </p:nvSpPr>
        <p:spPr>
          <a:xfrm>
            <a:off x="2133720" y="45720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PERANAN PUSAT PEMBAYAR GAJ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C9F3-530F-459F-AC52-8516CC21794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2362320" y="2209680"/>
            <a:ext cx="6324480" cy="213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ERANAN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USAT TANGGUNGJAWAB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7" descr="j0300520"/>
          <p:cNvPicPr/>
          <p:nvPr/>
        </p:nvPicPr>
        <p:blipFill>
          <a:blip r:embed="rId1"/>
          <a:stretch/>
        </p:blipFill>
        <p:spPr>
          <a:xfrm>
            <a:off x="304920" y="2209680"/>
            <a:ext cx="2252520" cy="2152800"/>
          </a:xfrm>
          <a:prstGeom prst="rect">
            <a:avLst/>
          </a:prstGeom>
          <a:ln w="0">
            <a:noFill/>
          </a:ln>
        </p:spPr>
      </p:pic>
      <p:sp>
        <p:nvSpPr>
          <p:cNvPr id="274" name="Line 5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Line 3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4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AKLI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LAKSAN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STEM EPENYATA GAJ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APOR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LE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UHANAZ BINTI HARU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9B69-48C8-4ED9-BB8A-9F9F55A200B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883908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14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524240" cy="1371600"/>
          </a:xfrm>
          <a:prstGeom prst="rect">
            <a:avLst/>
          </a:prstGeom>
          <a:ln w="9360">
            <a:solidFill>
              <a:srgbClr val="003b76"/>
            </a:solidFill>
            <a:miter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tua PTJ perlu melantik pegawai di PTJ untuk mencetak atau muat turun Laporan Bulanan melalui sist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at turun Laporan bulanan Pejabat Perakaunan melalui sistem dan menyimpan secara bercetak (hardcopy) atau softcop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gawai yang dilantik / dibatal akses perlu mengemukakan permohonan kepada Pentadbir Sistem Pejabat Perakaunan bagi mendapatkan kelulusan melalui borang SP/ANM/3/2010/01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gawai yang dilantik perlu memperbaharui tempoh sah peranan di dalam sistem setiap 3 bulan sekal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B19B-38A4-4E51-B8C8-DBDD026AEE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676520" cy="76176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282" name="Rectangle 5"/>
          <p:cNvSpPr/>
          <p:nvPr/>
        </p:nvSpPr>
        <p:spPr>
          <a:xfrm>
            <a:off x="2133720" y="533520"/>
            <a:ext cx="655308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PERANAN PUSAT TANGGUNGJAWA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b……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dapatkan tatacara penggunaan Sistem daripada laman sesawang www.anm.gov.m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ghubungi Pentadbir Sistem Pejabat Perakaunan jika terdapat sebarang pertanya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5896-B5C4-48B2-887E-13F13B9A0DE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67652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287" name="Rectangle 5"/>
          <p:cNvSpPr/>
          <p:nvPr/>
        </p:nvSpPr>
        <p:spPr>
          <a:xfrm>
            <a:off x="2133720" y="38088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PERANAN PUSAT TANGGUNGJAWA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0B2A-C43B-4925-B11D-3EA839517CC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2971800" y="2209680"/>
            <a:ext cx="5638680" cy="1981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ERANAN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INDIVIDU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0" name="Picture 5" descr="j0300520"/>
          <p:cNvPicPr/>
          <p:nvPr/>
        </p:nvPicPr>
        <p:blipFill>
          <a:blip r:embed="rId1"/>
          <a:stretch/>
        </p:blipFill>
        <p:spPr>
          <a:xfrm>
            <a:off x="758880" y="2209680"/>
            <a:ext cx="2252520" cy="1981440"/>
          </a:xfrm>
          <a:prstGeom prst="rect">
            <a:avLst/>
          </a:prstGeom>
          <a:ln w="0">
            <a:noFill/>
          </a:ln>
        </p:spPr>
      </p:pic>
      <p:sp>
        <p:nvSpPr>
          <p:cNvPr id="291" name="Line 5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4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gakses, mencetak atau memuat turun Penyata Gaji Bulanan dan Penyata Pendapatan  Tahunan melalui sist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dapatkan tatacara penggunaan sistem dilaman web Jabatan Akauntan Negara Malays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ghubungi Pusat Pembayar Gaji masing-masing untuk mendapatkan cetakan Penyata Gaji Bulanan dan Penyata Pendapatan Tahunan SEKIRANYA TIDAK MEMPUNYAI AKSES KE INTERN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njawat awam yang baru perlu mendapatkan malumat nombor gaji dari Pusat Pembayar Gaj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8E13-4079-4BEC-8344-37767A6570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67652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299" name="Rectangle 5"/>
          <p:cNvSpPr/>
          <p:nvPr/>
        </p:nvSpPr>
        <p:spPr>
          <a:xfrm>
            <a:off x="2133720" y="38088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PERANAN PENGGUNA INDIVID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b……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ividu bertanggungjawab sepenuhnya terhadap sebarang urusan rasmi yang dibuat dengan pihak luar ketika menggunakan kemudahan yang disediakan oleh sistem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ghubungi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aklumbalas@anm.gov.m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tau menelefon hotline 03-88821414 jika terdapat sebarang pertanyaan mengenai sist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FF94-A969-4BCE-88F8-FB641C8848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90512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304" name="Rectangle 5"/>
          <p:cNvSpPr/>
          <p:nvPr/>
        </p:nvSpPr>
        <p:spPr>
          <a:xfrm>
            <a:off x="2133720" y="38088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PERANAN PENGGUNA INDIVID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87D0-552E-4D81-8DB1-8748E7B2E7E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316080" y="380880"/>
            <a:ext cx="190476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24080" y="365040"/>
            <a:ext cx="6477120" cy="78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TEMPOH PENYIMPANAN MAKLUMAT</a:t>
            </a:r>
            <a:br>
              <a:rPr sz="2800"/>
            </a:b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DALAM SISTEM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599840"/>
            <a:ext cx="8229600" cy="43038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nyata Gaji – Tahun semasa sehingga bulan Jun tahun berikutny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poran         – 3 bul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LAPORAN MASTER LIS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SENARAI POTONGAN CUKA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SENARAI POTONGAN KWS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 SENARAI B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LAPORAN PERATUSAN POTONGAN MELEBIHI PENDAPAT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. LAPORAN BAUCAR BAYARAN GAJ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5B8C-CB98-493B-884E-F40579102F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316080" y="380880"/>
            <a:ext cx="190476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47712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SENARAI LAPORAN GAJ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. LAPORAN TERPERINCI  PERBELANJAAN VO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–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230 T, C231B, C232P, C233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. LAPORAN TERPERINCI HASIL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C33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. LAPORAN TERPERINCI AMANA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C35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3876-1083-4352-A405-63CCABB8C1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316080" y="380880"/>
            <a:ext cx="190476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670572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SENARAI LAPORAN FLIMS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D0EE-507A-44E8-8DA2-57D421B493D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8" name="Picture 10" descr="j0301252"/>
          <p:cNvPicPr/>
          <p:nvPr/>
        </p:nvPicPr>
        <p:blipFill>
          <a:blip r:embed="rId1"/>
          <a:stretch/>
        </p:blipFill>
        <p:spPr>
          <a:xfrm>
            <a:off x="5562720" y="914400"/>
            <a:ext cx="266688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2"/>
          <p:cNvSpPr/>
          <p:nvPr/>
        </p:nvSpPr>
        <p:spPr>
          <a:xfrm>
            <a:off x="609480" y="3200400"/>
            <a:ext cx="556596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CARA-CARA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DAFTAR MASUK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MELALUI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LAMAN SESAWA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www.anm.gov.m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Oval 11"/>
          <p:cNvSpPr/>
          <p:nvPr/>
        </p:nvSpPr>
        <p:spPr>
          <a:xfrm>
            <a:off x="5638680" y="3962520"/>
            <a:ext cx="1752840" cy="45720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ww.anm.gov.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B066-9B11-47BF-B7A2-2F0728835EC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5" name="Picture 1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05760" cy="4611600"/>
          </a:xfrm>
          <a:prstGeom prst="rect">
            <a:avLst/>
          </a:prstGeom>
          <a:ln w="0">
            <a:noFill/>
          </a:ln>
        </p:spPr>
      </p:pic>
      <p:sp>
        <p:nvSpPr>
          <p:cNvPr id="326" name="Oval 7"/>
          <p:cNvSpPr/>
          <p:nvPr/>
        </p:nvSpPr>
        <p:spPr>
          <a:xfrm>
            <a:off x="5486400" y="4038480"/>
            <a:ext cx="2057400" cy="38124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NDUNG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NGENA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UNGSI SIST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ANAN PENGGUNA DAN AKSES MAKLU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ANAN PEJABAT PERAKAUN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ANAN PUSAT PEMBAYAR GAJ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ANAN PTJ MEMBAY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DIVID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RA-CARA DAFTAR MASU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C5C4-9787-46D5-934B-33095CBC0C9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83808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3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85800" y="5638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KLIK DAFTAR MASUK KALI PERTAMA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8" name="Picture 1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53060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E554-9FAB-4B59-A959-A8139CDE277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ISI SEMUA MEDAN WAJIB (BERTANDA MERAH) 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C8C1-D04A-4832-AEA3-7048E240A46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39320" cy="4762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MUA MAKLUMAT TELAH DIKUNCI MASUK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KLIK   OK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0546-E9E6-4F3A-B944-B359E9123B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58040" cy="4848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NDA TELAH BERJAYA  MENDAFTA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E0E0-7B7D-4010-BB4C-CC71AD88D6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Picture 1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25000" cy="4762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MASUKKAN NO. KAD PENGENALAN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MASUKKAN KATA LALUAN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KLIK DAFTAR MASUK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3DD9-7CFC-4C2E-806F-380D48AAD5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10680" cy="4762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APARAN ……….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1DF3-9370-45BC-9AFA-5655F2534A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Picture 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91240" cy="4762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KIRANYA MEMILIH CETAK UNTUK SENDIRI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70AB-9F33-4A99-ABF5-5021BE6A10B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533520" y="1498680"/>
            <a:ext cx="8229600" cy="4754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ILIH SAMA ADA ‘OPEN’ ATAU ‘SAVE’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41A6-C597-4A15-837E-2434F3FEFB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54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NYATA GAJI OKT 201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FFFA-1B58-4103-B3BB-E2DDBBF825E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754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EMILIH UNTUK CETAK LAPORAN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D3F1-A811-491B-B06B-ECF50EE426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754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C51E-E2B5-490E-8A85-90C7EDA737D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609480" y="1981080"/>
            <a:ext cx="5565960" cy="213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PENGENA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Line 3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883908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10" descr="j0301252"/>
          <p:cNvPicPr/>
          <p:nvPr/>
        </p:nvPicPr>
        <p:blipFill>
          <a:blip r:embed="rId1"/>
          <a:stretch/>
        </p:blipFill>
        <p:spPr>
          <a:xfrm>
            <a:off x="4724280" y="1523880"/>
            <a:ext cx="3732480" cy="28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B0DE-C252-43B8-B7D0-4F9CA32F875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7" descr=""/>
          <p:cNvPicPr/>
          <p:nvPr/>
        </p:nvPicPr>
        <p:blipFill>
          <a:blip r:embed="rId1"/>
          <a:stretch/>
        </p:blipFill>
        <p:spPr>
          <a:xfrm>
            <a:off x="2087640" y="3557520"/>
            <a:ext cx="4618080" cy="23194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8"/>
          <p:cNvSpPr/>
          <p:nvPr/>
        </p:nvSpPr>
        <p:spPr>
          <a:xfrm>
            <a:off x="297000" y="1495440"/>
            <a:ext cx="8466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99ff"/>
                </a:solidFill>
                <a:latin typeface="Tahoma"/>
              </a:rPr>
              <a:t>TERIMA KASIH !</a:t>
            </a:r>
            <a:br>
              <a:rPr sz="4400"/>
            </a:br>
            <a:r>
              <a:rPr b="1" i="1" lang="en-GB" sz="3200" spc="-1" strike="noStrike">
                <a:solidFill>
                  <a:srgbClr val="3399ff"/>
                </a:solidFill>
                <a:latin typeface="Tahoma"/>
              </a:rPr>
              <a:t>ATAS TUMPUAN DAN KERJASAMA YANG ANDA BERIKAN SEPANJANG  TAKLIMAT  IN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FFB5-88ED-48E2-9901-0A6A71D8C72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27468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nda ada masalah? Sila hubung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286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YUHANAZ BINTI HARUN (09-627822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RLIANA BINTI ABDULLAH (09-6278241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OHD NOR AZIZ B. MANSOR (09-6278235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B. AKAUNTAN NEGARA MALAYS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GERI TERENGGAN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531720" indent="-53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6531120" y="1447920"/>
            <a:ext cx="25365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6619-0428-4AF6-9D0A-8FD4FF0A4DA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stem ePenyata Gaji dan eLaporan dibangunkan untuk membolehkan Penyata Gaji Bulanan, Penyata Pendapatan Tahunan dan Laporan Bulanan Pejabat Perakaunan disampaikan terus kepada PENGGUNA melalui laman web Jabatan Akauntan Negara Malaysia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algn="ctr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"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www.anm.gov.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GGUNA adalah penjawat awam yang dikategorikan sebagai INDIVIDU, PEGAWAI PUSAT PEMBAYAR GAJI, PEGAWAI PUSAT TANGGUNGJAWAB dan PENTADBIR SISTEM PEJABAT PERAKAUNAN yang mendaft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90520"/>
                <a:tab algn="l" pos="406440"/>
                <a:tab algn="l" pos="132084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90512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195" name="Rectangle 3"/>
          <p:cNvSpPr/>
          <p:nvPr/>
        </p:nvSpPr>
        <p:spPr>
          <a:xfrm>
            <a:off x="2133720" y="15228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PENGENAL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ENGGUNA boleh muat turun daripada si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. Penyata Gaji Bulan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. Laporan Bulan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. Penyata Pendapatan Tahun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ENGGUNA hendaklah mematuhi terma rujukan Pengguna Sistem ePenyata Gaji dan eLapor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ENGGUNA berdaftar hendaklah memastikan maklumat peribadi tidak disalahgunakan oleh pihak yang tidak bertanggungjawa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56B6-F0C5-4A6F-9292-9AE180D9D19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90476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200" name="Rectangle 3"/>
          <p:cNvSpPr/>
          <p:nvPr/>
        </p:nvSpPr>
        <p:spPr>
          <a:xfrm>
            <a:off x="2133720" y="38088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PENGENAL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9068-37B3-4D23-937D-EC8BF29C363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0512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203" name="Rectangle 3"/>
          <p:cNvSpPr/>
          <p:nvPr/>
        </p:nvSpPr>
        <p:spPr>
          <a:xfrm>
            <a:off x="2133720" y="15228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KUATKUA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2666880"/>
            <a:ext cx="8839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AI OKTOBER 2010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C9E3-7453-4EED-88D7-3F9C7EF0B6A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533520" y="3124080"/>
            <a:ext cx="5565600" cy="213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FUNGSI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  <a:ea typeface="Times New Roman"/>
              </a:rPr>
              <a:t>SISTE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10" descr="j0301252"/>
          <p:cNvPicPr/>
          <p:nvPr/>
        </p:nvPicPr>
        <p:blipFill>
          <a:blip r:embed="rId1"/>
          <a:stretch/>
        </p:blipFill>
        <p:spPr>
          <a:xfrm>
            <a:off x="4724280" y="1523880"/>
            <a:ext cx="3732480" cy="2898720"/>
          </a:xfrm>
          <a:prstGeom prst="rect">
            <a:avLst/>
          </a:prstGeom>
          <a:ln w="0">
            <a:noFill/>
          </a:ln>
        </p:spPr>
      </p:pic>
      <p:sp>
        <p:nvSpPr>
          <p:cNvPr id="208" name="Line 5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4"/>
          <p:cNvSpPr/>
          <p:nvPr/>
        </p:nvSpPr>
        <p:spPr>
          <a:xfrm>
            <a:off x="883908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3B52-C74E-4B17-AAA6-FE975133E9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05120" cy="762120"/>
          </a:xfrm>
          <a:prstGeom prst="rect">
            <a:avLst/>
          </a:prstGeom>
          <a:ln w="12600">
            <a:solidFill>
              <a:srgbClr val="003b76"/>
            </a:solidFill>
            <a:miter/>
          </a:ln>
        </p:spPr>
      </p:pic>
      <p:sp>
        <p:nvSpPr>
          <p:cNvPr id="214" name="Rectangle 3"/>
          <p:cNvSpPr/>
          <p:nvPr/>
        </p:nvSpPr>
        <p:spPr>
          <a:xfrm>
            <a:off x="2133720" y="15228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FUNGSI SI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14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750960" cy="731880"/>
          </a:xfrm>
          <a:prstGeom prst="rect">
            <a:avLst/>
          </a:prstGeom>
          <a:ln w="9360">
            <a:solidFill>
              <a:srgbClr val="003b76"/>
            </a:solidFill>
            <a:miter/>
          </a:ln>
        </p:spPr>
      </p:pic>
      <p:sp>
        <p:nvSpPr>
          <p:cNvPr id="216" name="Text Box 5"/>
          <p:cNvSpPr/>
          <p:nvPr/>
        </p:nvSpPr>
        <p:spPr>
          <a:xfrm>
            <a:off x="304920" y="1371600"/>
            <a:ext cx="8381880" cy="481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stem e-PenyataGaji dan Laporan memberi akases kepada pengguna-pengguna beriku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lalui Internet(Laman Web JANM </a:t>
            </a:r>
            <a:r>
              <a:rPr b="1" lang="en-US" sz="1400" spc="-1" strike="noStrike">
                <a:solidFill>
                  <a:srgbClr val="003b76"/>
                </a:solidFill>
                <a:latin typeface="Verdana"/>
              </a:rPr>
              <a:t>– 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anm.gov.m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njawat awam Kerajaan Persekutuan di dalam Sistem Prosesan Gaji JANM memuat turun penyata gaji bulanan dan penyata pendapatan tahunan tanpa pejabat perakaunan JANM  mencetak dan mengedar kepada pusat gaji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sat Pembayar gaji memuat turun penyata gaji bulanan dan penyata pendapat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hunan individu-individu bagi sesuatu pusat pembayar kerkenaan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Pusat Pembayar Gaji memuat turun laporan gaj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Pusat Tanggungjawab(PTJ) Membayar memuat turun laporan GFMAS Siri C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Pegawai Pengawal memuat turun laporan anggota di bawahnya yang bergaji bersih 40% dan kebawah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Verdana"/>
              </a:rPr>
              <a:t>Institusi kewangan/koperasi menyemak maklumat gaji bersih penjawat awam di dalam senarai gaji bersih 40% dan kebawah atau tida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965160" indent="-3934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3T09:35:40Z</dcterms:created>
  <dc:creator>USER</dc:creator>
  <dc:description/>
  <dc:language>en-US</dc:language>
  <cp:lastModifiedBy>moe</cp:lastModifiedBy>
  <dcterms:modified xsi:type="dcterms:W3CDTF">2010-10-19T04:34:10Z</dcterms:modified>
  <cp:revision>257</cp:revision>
  <dc:subject/>
  <dc:title>PowerPoint Presentation</dc:title>
</cp:coreProperties>
</file>