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AF9-7846-4A4D-B66A-49A4F6E5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C9D-5DF9-4753-9DB0-2BBC47B5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7E3-E2E9-4967-9220-E393E45C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A6C-B016-4FCE-9FD2-919DC233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0E9-5344-4A65-BDFB-DC9D2BF4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363-70AC-4215-8FBA-455C0889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4AB-F641-48B8-AD73-81361921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668-986F-42E1-B08A-D34DE4DF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3EB-F6AD-4DFB-BB13-B5FF3483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4C7-1919-4761-8031-AAA2BC0B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B8E-0DFE-47FF-B0C4-CAC12FA6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01D-6802-40BA-BF36-E6200B4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E56D-EF08-44AD-830B-AA94C579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package" Target="../embeddings/oleObject1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hyperlink" Target="file:///BORANG%20SOAL%20SELIDIK.doc" TargetMode="External"/><Relationship Id="rId7" Type="http://schemas.openxmlformats.org/officeDocument/2006/relationships/hyperlink" Target="file:///BORANG%20SOAL%20SELIDIK.doc" TargetMode="External"/><Relationship Id="rId8" Type="http://schemas.openxmlformats.org/officeDocument/2006/relationships/hyperlink" Target="file:///BORANG%20SOAL%20SELIDIK.doc" TargetMode="External"/><Relationship Id="rId9" Type="http://schemas.openxmlformats.org/officeDocument/2006/relationships/hyperlink" Target="file:///Analisa%20Ujian-Pra.doc" TargetMode="External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hyperlink" Target="file:///Kaedah%20Permainan.doc" TargetMode="External"/><Relationship Id="rId6" Type="http://schemas.openxmlformats.org/officeDocument/2006/relationships/hyperlink" Target="file:///Kaedah%20Permainan.doc" TargetMode="External"/><Relationship Id="rId7" Type="http://schemas.openxmlformats.org/officeDocument/2006/relationships/hyperlink" Target="file:///Kaedah%20Permainan.doc" TargetMode="External"/><Relationship Id="rId8" Type="http://schemas.openxmlformats.org/officeDocument/2006/relationships/hyperlink" Target="file:///Kaedah%20Permainan.doc" TargetMode="External"/><Relationship Id="rId9" Type="http://schemas.openxmlformats.org/officeDocument/2006/relationships/hyperlink" Target="file:///Kaedah%20Permainan.doc" TargetMode="External"/><Relationship Id="rId10" Type="http://schemas.openxmlformats.org/officeDocument/2006/relationships/hyperlink" Target="file:///Kaedah%20Permainan.doc" TargetMode="External"/><Relationship Id="rId11" Type="http://schemas.openxmlformats.org/officeDocument/2006/relationships/hyperlink" Target="file:///Kaedah%20Permainan.doc" TargetMode="External"/><Relationship Id="rId12" Type="http://schemas.openxmlformats.org/officeDocument/2006/relationships/hyperlink" Target="file:///Kaedah%20Permainan.doc" TargetMode="External"/><Relationship Id="rId13" Type="http://schemas.openxmlformats.org/officeDocument/2006/relationships/hyperlink" Target="file:///Kaedah%20Permainan.doc" TargetMode="External"/><Relationship Id="rId14" Type="http://schemas.openxmlformats.org/officeDocument/2006/relationships/hyperlink" Target="file:///Ujian-Pos.doc" TargetMode="External"/><Relationship Id="rId15" Type="http://schemas.openxmlformats.org/officeDocument/2006/relationships/hyperlink" Target="file:///Ujian-Pos.doc" TargetMode="External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05740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High Tower Text"/>
                <a:ea typeface="Arial Unicode MS"/>
              </a:rPr>
              <a:t>KAJIAN TINDAKAN</a:t>
            </a:r>
            <a:br>
              <a:rPr sz="2400"/>
            </a:br>
            <a:r>
              <a:rPr b="1" lang="ms-MY" sz="2400" spc="-1" strike="noStrike">
                <a:solidFill>
                  <a:srgbClr val="000000"/>
                </a:solidFill>
                <a:latin typeface="Californian FB"/>
                <a:ea typeface="Arial Unicode MS"/>
              </a:rPr>
              <a:t>MENINGKATKAN KEMAHIRAN MURID TAHUN 6 MENULIS NOMBOR DALAM BENTUK PERKATAAN MENGGUNAKAN KAEDAH PERMAINAN  </a:t>
            </a:r>
            <a:br>
              <a:rPr sz="2400"/>
            </a:br>
            <a:r>
              <a:rPr b="1" lang="ms-MY" sz="2400" spc="-1" strike="noStrike">
                <a:solidFill>
                  <a:srgbClr val="000000"/>
                </a:solidFill>
                <a:latin typeface="Californian FB"/>
                <a:ea typeface="Arial Unicode MS"/>
              </a:rPr>
              <a:t>“TIGA DIGIT DALAM RUMA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648320"/>
            <a:ext cx="7772400" cy="9903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  <a:ea typeface="Arial Unicode MS"/>
              </a:rPr>
              <a:t>OLEH :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High Tower Text"/>
                <a:ea typeface="Arial Unicode MS"/>
              </a:rPr>
              <a:t>MASYITAHFATIMAH BINTI MUKT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662040"/>
            <a:ext cx="7010640" cy="1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fleksi Pengajaran &amp; Pembalajaran Lal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91440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5400000">
            <a:off x="4242960" y="2843280"/>
            <a:ext cx="514440" cy="16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24280" y="2276640"/>
            <a:ext cx="514440" cy="16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 rot="10800000">
            <a:off x="3753000" y="2276280"/>
            <a:ext cx="514080" cy="16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1600200"/>
            <a:ext cx="2133720" cy="152388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Tidak dapat menguasai kemahiran menulis nombor tujuh digit dalam bentuk perkata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600200"/>
            <a:ext cx="2133360" cy="1523880"/>
          </a:xfrm>
          <a:prstGeom prst="rect">
            <a:avLst/>
          </a:prstGeom>
          <a:solidFill>
            <a:srgbClr val="99cc00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Terdapat kekeliruan cara membaca dan menulis nilai tempat sesuatu nomb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3886200"/>
            <a:ext cx="2133360" cy="152388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urid menunjukkan reaksi keliru, hilang fokus dan hilang min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kus Kaji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514080" cy="16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990720"/>
            <a:ext cx="7620120" cy="60948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Kelemahan murid membaca dan menulis nombor dalam bentuk perkat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514080" cy="16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1676520"/>
            <a:ext cx="7620120" cy="426708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1665360"/>
          <a:ext cx="7467840" cy="427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665360"/>
                    <a:ext cx="746784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bjektif Kaji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2971800"/>
            <a:ext cx="1371600" cy="914400"/>
          </a:xfrm>
          <a:prstGeom prst="rect">
            <a:avLst/>
          </a:prstGeom>
          <a:solidFill>
            <a:srgbClr val="ff00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Objektif Khu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581280"/>
            <a:ext cx="4647960" cy="99072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urid mahir menulis nombor dalam bentuk perkataan menggunakan Kaedah Permainan yang diperkenalkan iaitu ‘Tiga Digit Dalam Rumah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800600"/>
            <a:ext cx="4647960" cy="99072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eningkatkan prestasi murid dalam Mata Pelajaran Matemati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990720"/>
            <a:ext cx="1371600" cy="914400"/>
          </a:xfrm>
          <a:prstGeom prst="rect">
            <a:avLst/>
          </a:prstGeom>
          <a:solidFill>
            <a:srgbClr val="ff00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Objektif 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1600200"/>
            <a:ext cx="4647960" cy="91440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eningkatkan kemahiran murid menulis nombor dalam bentuk perkata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60948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609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umpulan Sasar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24480" y="3200400"/>
            <a:ext cx="164772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95280" y="3076560"/>
            <a:ext cx="930240" cy="2028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3000" y="990720"/>
            <a:ext cx="4648320" cy="761760"/>
          </a:xfrm>
          <a:prstGeom prst="rect">
            <a:avLst/>
          </a:prstGeom>
          <a:solidFill>
            <a:srgbClr val="ff99cc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Murid Tahun 6 Mawa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SK Kuala Setiu Sesi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905120"/>
            <a:ext cx="4647960" cy="761760"/>
          </a:xfrm>
          <a:prstGeom prst="rect">
            <a:avLst/>
          </a:prstGeom>
          <a:solidFill>
            <a:srgbClr val="33cc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20 Orang mu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733920"/>
            <a:ext cx="1371600" cy="76176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11 Orang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733920"/>
            <a:ext cx="1371600" cy="76176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9 Orang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elaksanaan Kajian Tindak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57600" y="1752480"/>
            <a:ext cx="1905120" cy="91440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Tinjauan Masalah &amp; Analisa Tinjauan Masa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rot="16200000">
            <a:off x="4190760" y="321876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9120000">
            <a:off x="5866920" y="175212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rot="1769400">
            <a:off x="2590560" y="167652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1371600"/>
            <a:ext cx="1905120" cy="91440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Pemerhati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Proses P&amp;P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Semakan Latiha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1371600"/>
            <a:ext cx="1905120" cy="914400"/>
          </a:xfrm>
          <a:prstGeom prst="rect">
            <a:avLst/>
          </a:prstGeom>
          <a:solidFill>
            <a:srgbClr val="ff6600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6"/>
              </a:rPr>
              <a:t>Soa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7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8"/>
              </a:rPr>
              <a:t>Selidik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962520"/>
            <a:ext cx="1905120" cy="914400"/>
          </a:xfrm>
          <a:prstGeom prst="rect">
            <a:avLst/>
          </a:prstGeom>
          <a:solidFill>
            <a:srgbClr val="ffcc00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9"/>
              </a:rPr>
              <a:t>Ujian-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819520"/>
            <a:ext cx="1905120" cy="914400"/>
          </a:xfrm>
          <a:prstGeom prst="rect">
            <a:avLst/>
          </a:prstGeom>
          <a:solidFill>
            <a:srgbClr val="99cc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P&amp;P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Ekspresi muka keliru,bosan dan hilang foku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267080"/>
            <a:ext cx="1905120" cy="106704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Semakan Latih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Tidak dapat transformasi nombor kepada perkataan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 rot="5400000">
            <a:off x="1414080" y="2462400"/>
            <a:ext cx="514440" cy="161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 rot="5400000">
            <a:off x="1414080" y="3909960"/>
            <a:ext cx="5140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elaksanaan Kajian Tindak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57600" y="1066680"/>
            <a:ext cx="1905120" cy="91440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Pelaksanaan Tinda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9480" y="2355840"/>
            <a:ext cx="3429000" cy="2901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81480" y="2013120"/>
            <a:ext cx="3457800" cy="3168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3657600"/>
            <a:ext cx="1905120" cy="91440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5"/>
              </a:rPr>
              <a:t>Kaedah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6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7"/>
              </a:rPr>
              <a:t>Permaina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8"/>
              </a:rPr>
              <a:t>:_x000b_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9"/>
              </a:rPr>
              <a:t>Tiga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0"/>
              </a:rPr>
              <a:t> Digi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1"/>
              </a:rPr>
              <a:t>Dala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3"/>
              </a:rPr>
              <a:t>Rum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581280"/>
            <a:ext cx="1905120" cy="914400"/>
          </a:xfrm>
          <a:prstGeom prst="rect">
            <a:avLst/>
          </a:prstGeom>
          <a:solidFill>
            <a:srgbClr val="ffff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4"/>
              </a:rPr>
              <a:t>Ujian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Schoolbook"/>
                <a:ea typeface="Arial Unicode MS"/>
                <a:hlinkClick r:id="rId15"/>
              </a:rPr>
              <a:t>-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 rot="2706600">
            <a:off x="5481360" y="243360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 rot="7828200">
            <a:off x="2518560" y="2128680"/>
            <a:ext cx="11430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enilaian Dan Refleksi Keseluruh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838080"/>
            <a:ext cx="8839440" cy="53341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819000" cy="11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57200" y="914400"/>
            <a:ext cx="819000" cy="1171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04920" y="4286160"/>
            <a:ext cx="1428480" cy="120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3880" y="990720"/>
            <a:ext cx="7162920" cy="1447560"/>
          </a:xfrm>
          <a:prstGeom prst="rect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Kelebih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Peningkatan pencapaian murid begitu positif dan memberangsangka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Memberi manfaat untuk dikongsi dengan guru-guru lai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Murid menunjukkan minat dan aktif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dalam aktiviti-aktiviti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yang dijalanka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2590920"/>
            <a:ext cx="7162920" cy="1447560"/>
          </a:xfrm>
          <a:prstGeom prst="rect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Kelemah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Walaupun keseluruhan analisa menunjukkan hasil yang baik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tetapi  masih terdapat murid yang tidak dapat menjawab soala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dengan betu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4191120"/>
            <a:ext cx="6858000" cy="1447560"/>
          </a:xfrm>
          <a:prstGeom prst="rect">
            <a:avLst/>
          </a:prstGeom>
          <a:solidFill>
            <a:srgbClr val="ffcc99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Cadangan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- Memperbanyakkan/menambah unsur-unsur warna dan kartu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dalam proses P&amp;P agar dapat menarik minat muri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terutamanya murid-murid lemah sekaligus dapat menanam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konsep “Learning is fun” dan “Mathematics is fu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905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 Unicode MS"/>
              </a:rPr>
              <a:t>Sekian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 Unicode MS"/>
              </a:rPr>
              <a:t>Terima Kasih</a:t>
            </a:r>
            <a:br>
              <a:rPr sz="2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8839440" cy="533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MINAR PENYELIDIKAN PENDID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ERI TERENGGANU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8839440" cy="45720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7010640" cy="9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33526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6:45:51Z</dcterms:created>
  <dc:creator>WW</dc:creator>
  <dc:description/>
  <dc:language>en-US</dc:language>
  <cp:lastModifiedBy>WW</cp:lastModifiedBy>
  <dcterms:modified xsi:type="dcterms:W3CDTF">2010-10-17T03:06:22Z</dcterms:modified>
  <cp:revision>37</cp:revision>
  <dc:subject/>
  <dc:title>Slide 1</dc:title>
</cp:coreProperties>
</file>