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96640" y="69228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F564-75A6-4B36-BCBB-27AD97B55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BF81-F080-4CE3-B032-C8B75021A191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A27-5EAD-4D60-8902-C8613268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397-4151-4577-9349-40D4D8D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BD5-16F6-4D74-8052-21A2ADCF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2E9-6F60-4766-83D2-E3089B9B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A414-F7D6-43D1-8D85-E3687731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7CC5-677B-48E7-88CA-878A833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D3A4-F6D2-4006-AF1B-D0B223C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E57-4C40-41DE-95E7-6110774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2982-3CFE-4D50-B217-1F15FF69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4C9-6026-4ED7-8A02-FC4064AC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4686-9BD2-42C2-8F9E-ED2F7D9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8AF-659E-41A0-BE20-9C016E29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088E-4594-4332-B0FC-0932195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4BA-59DF-4E02-B0BC-A7A1954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2A5-00A7-4656-B58E-11107AF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2E8-3634-484D-B114-C3234AB5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7F08-48C2-49B1-BA72-920B2AB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C700-556D-446D-BFEF-392723A7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C7A6-7127-47DF-AD2F-65811DDE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6B4D-6DF5-49D9-9B2A-60369851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B94E-8A20-4839-8CFB-076C8F9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6F2B-C777-404E-8768-AF7AD5F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A91-FC9A-42DF-929D-30C18E08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35FE-1D30-4F43-B4AB-DFBF50A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6401-DA89-4FE7-8AAE-DB9459D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E7DF-E159-4237-AACA-9193148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7D81-62F0-435E-8D7F-DC929D6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4ADA-A60D-4C4A-94BF-C9635B8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4A07-88C3-4327-93B5-567750A8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3388-BA47-4B47-A11F-752D386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C190-7261-44F9-954A-FAE50A9D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0584-6518-4237-9A5E-7C81CD1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CDDF-766B-4D25-8E84-6CBF2371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C8F-92E5-42F7-BCAF-4C3539E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A2E6-5B05-4FB8-8844-B06123A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93B7-FADA-4CAA-B6FC-8E03BA5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405B-D8A0-4AA7-9D5D-1A891CE8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E544F-A215-4283-A9C9-020F2BD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AF37-86E9-4FE8-A394-E46D0E7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A1FC-C62D-4D23-A33C-F16B499D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83F5-E7E4-44A7-B9D4-D769B4D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4F07-27F3-40C7-A104-0C22EE94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0D99-28E7-4693-B363-96CA5D9C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BB1-31D3-4CA6-855A-3CB3DDE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095-781D-427F-ADB3-A2C5015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5D9-4F02-4C21-B752-71CD941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248-50B7-4D15-AFEB-DFBDBEB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E9C-E18B-4DD4-BE04-AA36642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F46E-840B-4C5F-B188-C2B8589BF0D1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39AB-902F-414D-A643-E12E34A3838F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0170-CD86-4357-9054-E0FA7E7C8DB5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5AE-18A6-4E94-BE14-653EDDF7368F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ECDB-C9D4-455A-B376-6ABAE3CA9970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532-4EB4-43A6-BD75-0093D90CD89C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06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206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206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2F48-57D3-46DD-91BD-5FE166D02C01}" type="datetime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14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FAB-A4AF-4EDD-B34D-0C84AB9F3708}" type="slidenum">
              <a:rPr b="0" lang="en-US" sz="1000" spc="-1" strike="noStrike">
                <a:solidFill>
                  <a:srgbClr val="0014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2"/>
          <a:stretch/>
        </p:blipFill>
        <p:spPr>
          <a:xfrm>
            <a:off x="1725480" y="1530360"/>
            <a:ext cx="7223400" cy="479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oe TransParent"/>
          <p:cNvPicPr/>
          <p:nvPr/>
        </p:nvPicPr>
        <p:blipFill>
          <a:blip r:embed="rId3"/>
          <a:stretch/>
        </p:blipFill>
        <p:spPr>
          <a:xfrm>
            <a:off x="4492800" y="152280"/>
            <a:ext cx="1298520" cy="11430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255-1840-4023-BD75-0CE14E4F56C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165320"/>
            <a:ext cx="86072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utusan Pengerusi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gesahan Minit Mesyuarat Bil. 2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Isu KWAPM 2011 da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)    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)    Format Permohonan KWAPM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ii)   Cadangan Pembekalan Pakaian &amp; Aksesori   Sekolah Bagi Bantuan KWAPM Tahun 201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iv)   Teguran SPRM – Pemeriksaan Amalan, Sistem dan Prosedur Kerja Pengagihan Bantuan KWAPM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rbincangan awal deraf SPK Baru KWAPM Tahun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Hal-hal lai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ffffff"/>
                </a:solidFill>
                <a:latin typeface="Arial"/>
              </a:rPr>
              <a:t>Penutup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406440" indent="-37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2A5-5B81-4733-8AAE-2E65EB43AE8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87160" y="2422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4600" spc="-1" strike="noStrike">
                <a:solidFill>
                  <a:srgbClr val="ffffff"/>
                </a:solidFill>
                <a:latin typeface="Arial"/>
              </a:rPr>
              <a:t>MINIT MESYUARAT BIL. 2 TAHUN 2011 </a:t>
            </a:r>
            <a:endParaRPr b="0" lang="en-US" sz="4600" spc="-1" strike="noStrike">
              <a:solidFill>
                <a:srgbClr val="002060"/>
              </a:solidFill>
              <a:latin typeface="Franklin Gothic Book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5573-886C-4F53-B2A3-FB5F0B78BFA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C:\Program Files\Microsoft Office\MEDIA\CAGCAT10\j0293236.wmf"/>
          <p:cNvPicPr/>
          <p:nvPr/>
        </p:nvPicPr>
        <p:blipFill>
          <a:blip r:embed="rId1"/>
          <a:stretch/>
        </p:blipFill>
        <p:spPr>
          <a:xfrm>
            <a:off x="3005280" y="44197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8CC-8488-4838-A800-C59068ADBBC6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1890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US PEMBAYARAN KWAPM 2011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440" y="942840"/>
          <a:ext cx="9042480" cy="5507280"/>
        </p:xfrm>
        <a:graphic>
          <a:graphicData uri="http://schemas.openxmlformats.org/drawingml/2006/table">
            <a:tbl>
              <a:tblPr/>
              <a:tblGrid>
                <a:gridCol w="333360"/>
                <a:gridCol w="1001880"/>
                <a:gridCol w="1627200"/>
                <a:gridCol w="898560"/>
                <a:gridCol w="2001600"/>
                <a:gridCol w="828720"/>
                <a:gridCol w="1524240"/>
                <a:gridCol w="826920"/>
              </a:tblGrid>
              <a:tr h="333000"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BIL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EKASIH TAHUN 1 TINGKATAN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3-6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ATA SEDIA ADA (DSA) DARJAH 1-2 &amp; TING 1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DIHANTAR UNTUK UPLOAD SISKWAPM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UNIT KEWANGAN</a:t>
                      </a:r>
                      <a:endParaRPr b="0" lang="en-US" sz="9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DAH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875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BAH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 </a:t>
                      </a: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13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belum terima 3 daerah, semporna Kinabatangan dan beaufort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7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ERENGGANU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(proses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LABU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mohonan baru sampai (18/7/2011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LAU PIN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LI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ELANT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NEGERI SEMBIL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ER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MELAK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6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0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ARAWAK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50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JOH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roses (gabung seluruh daerah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6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AHANG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175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SELANGOR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160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PUTRAJAYA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Tiada permohonan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√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c5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2554-476C-4B37-8F17-BE68A68C0A5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6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197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198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199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00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89C-84F8-4E88-9A62-6C7887697E0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3" name="Rectangle 24" descr=""/>
          <p:cNvPicPr/>
          <p:nvPr/>
        </p:nvPicPr>
        <p:blipFill>
          <a:blip r:embed="rId1"/>
          <a:stretch/>
        </p:blipFill>
        <p:spPr>
          <a:xfrm>
            <a:off x="360360" y="158760"/>
            <a:ext cx="8345520" cy="895320"/>
          </a:xfrm>
          <a:prstGeom prst="rect">
            <a:avLst/>
          </a:prstGeom>
          <a:ln w="0">
            <a:noFill/>
          </a:ln>
        </p:spPr>
      </p:pic>
      <p:pic>
        <p:nvPicPr>
          <p:cNvPr id="204" name="Group 4" descr=""/>
          <p:cNvPicPr/>
          <p:nvPr/>
        </p:nvPicPr>
        <p:blipFill>
          <a:blip r:embed="rId2"/>
          <a:stretch/>
        </p:blipFill>
        <p:spPr>
          <a:xfrm>
            <a:off x="2000160" y="1292400"/>
            <a:ext cx="46562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63600" y="2911320"/>
          <a:ext cx="8447040" cy="3292560"/>
        </p:xfrm>
        <a:graphic>
          <a:graphicData uri="http://schemas.openxmlformats.org/drawingml/2006/table">
            <a:tbl>
              <a:tblPr/>
              <a:tblGrid>
                <a:gridCol w="711000"/>
                <a:gridCol w="3716640"/>
                <a:gridCol w="401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LEBIH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KURANGAN</a:t>
                      </a:r>
                      <a:endParaRPr b="0" lang="en-US" sz="2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b23b7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ntuan dimanfaatkan sepenuhny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iada baki wang KWAPM untuk Bayaran Tambahan Persekolah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lah guna wang bantuan dapat dielakk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ngumpulan data dan saiz baju memakan masa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ihan peralatan sekolah terus ke sekolah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elewatan penghantaran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ualiti dan kuantiti barangan dapat dikawal kerana daripada sumber yang sama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iz yang tidak bersesuaian / tidak tepat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F5A5-6184-485C-B3F9-9990AC3ABA73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07" name="Rectangle 24" descr=""/>
          <p:cNvPicPr/>
          <p:nvPr/>
        </p:nvPicPr>
        <p:blipFill>
          <a:blip r:embed="rId1"/>
          <a:stretch/>
        </p:blipFill>
        <p:spPr>
          <a:xfrm>
            <a:off x="255600" y="328680"/>
            <a:ext cx="8656560" cy="1469880"/>
          </a:xfrm>
          <a:prstGeom prst="rect">
            <a:avLst/>
          </a:prstGeom>
          <a:ln w="0">
            <a:noFill/>
          </a:ln>
        </p:spPr>
      </p:pic>
      <p:pic>
        <p:nvPicPr>
          <p:cNvPr id="208" name="Group 4" descr=""/>
          <p:cNvPicPr/>
          <p:nvPr/>
        </p:nvPicPr>
        <p:blipFill>
          <a:blip r:embed="rId2"/>
          <a:stretch/>
        </p:blipFill>
        <p:spPr>
          <a:xfrm>
            <a:off x="2230560" y="2700360"/>
            <a:ext cx="45720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5281-0DB5-4B33-BEA8-EBCC0C4B3BDF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0" name="Rectangle 24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211" name="Group 4" descr=""/>
          <p:cNvPicPr/>
          <p:nvPr/>
        </p:nvPicPr>
        <p:blipFill>
          <a:blip r:embed="rId2"/>
          <a:stretch/>
        </p:blipFill>
        <p:spPr>
          <a:xfrm>
            <a:off x="2305080" y="1712880"/>
            <a:ext cx="4572000" cy="3322800"/>
          </a:xfrm>
          <a:prstGeom prst="rect">
            <a:avLst/>
          </a:prstGeom>
          <a:ln w="0">
            <a:noFill/>
          </a:ln>
        </p:spPr>
      </p:pic>
      <p:pic>
        <p:nvPicPr>
          <p:cNvPr id="212" name="Text Box 6" descr=""/>
          <p:cNvPicPr/>
          <p:nvPr/>
        </p:nvPicPr>
        <p:blipFill>
          <a:blip r:embed="rId3"/>
          <a:stretch/>
        </p:blipFill>
        <p:spPr>
          <a:xfrm>
            <a:off x="828720" y="4181400"/>
            <a:ext cx="3157560" cy="536760"/>
          </a:xfrm>
          <a:prstGeom prst="rect">
            <a:avLst/>
          </a:prstGeom>
          <a:ln w="0">
            <a:noFill/>
          </a:ln>
        </p:spPr>
      </p:pic>
      <p:pic>
        <p:nvPicPr>
          <p:cNvPr id="213" name="Text Box 6" descr=""/>
          <p:cNvPicPr/>
          <p:nvPr/>
        </p:nvPicPr>
        <p:blipFill>
          <a:blip r:embed="rId4"/>
          <a:stretch/>
        </p:blipFill>
        <p:spPr>
          <a:xfrm>
            <a:off x="5022720" y="4108320"/>
            <a:ext cx="3157560" cy="542880"/>
          </a:xfrm>
          <a:prstGeom prst="rect">
            <a:avLst/>
          </a:prstGeom>
          <a:ln w="0">
            <a:noFill/>
          </a:ln>
        </p:spPr>
      </p:pic>
      <p:sp>
        <p:nvSpPr>
          <p:cNvPr id="214" name="Down Arrow 11"/>
          <p:cNvSpPr/>
          <p:nvPr/>
        </p:nvSpPr>
        <p:spPr>
          <a:xfrm>
            <a:off x="2684520" y="3265560"/>
            <a:ext cx="485640" cy="9777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Down Arrow 14"/>
          <p:cNvSpPr/>
          <p:nvPr/>
        </p:nvSpPr>
        <p:spPr>
          <a:xfrm>
            <a:off x="5748480" y="3208320"/>
            <a:ext cx="477720" cy="942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e2a7c8"/>
          </a:solidFill>
          <a:ln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60F-3BB7-4FE3-B8E2-55B3B415559C}" type="slidenum">
              <a:rPr b="0" lang="en-US" sz="1000" spc="-1" strike="noStrike">
                <a:solidFill>
                  <a:srgbClr val="0014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217" name="Rectangle 24" descr=""/>
          <p:cNvPicPr/>
          <p:nvPr/>
        </p:nvPicPr>
        <p:blipFill>
          <a:blip r:embed="rId1"/>
          <a:stretch/>
        </p:blipFill>
        <p:spPr>
          <a:xfrm>
            <a:off x="237960" y="2341440"/>
            <a:ext cx="8345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4:34:52Z</dcterms:created>
  <dc:creator>sue</dc:creator>
  <dc:description/>
  <dc:language>en-US</dc:language>
  <cp:lastModifiedBy>Lenovo User</cp:lastModifiedBy>
  <dcterms:modified xsi:type="dcterms:W3CDTF">2011-07-19T00:24:37Z</dcterms:modified>
  <cp:revision>365</cp:revision>
  <dc:subject/>
  <dc:title>Slide 1</dc:title>
</cp:coreProperties>
</file>