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23400" y="747720"/>
            <a:ext cx="4986360" cy="374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8220-BEA0-44A2-845D-1B31BF19D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445F-9807-4754-8849-71244D033034}" type="slidenum">
              <a:rPr b="0" lang="en-US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B95-CE91-4226-B941-96F5CD89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D9F4-F45F-42F3-B937-ED4B352E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B9BC-9E3A-4CB7-9870-FAA36323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5D8-DBD4-420C-A025-ED2F4328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BEA5-CD0B-4B05-90FD-3BEDB12B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15BA-87D0-4208-B870-9A36E6BE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7C57-E3AE-4560-A07B-110AA3E9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CA25-B7A1-42B9-A30C-36DECC79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BCD4-9AB9-4BB7-91F9-7F41E1EE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3212-C3B9-45A8-AFAC-821C46BE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31CB-4E6E-4CF0-8554-70EFE657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08DD-35E1-4CBD-A35C-D2CCB949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D29F-7257-4405-AAFA-D36B9C70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2936-BE99-4F6F-B14C-5993DF81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0882-D1FA-4AB9-B845-B1BDFDCB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E117-D7F4-4B51-823C-312F6DD2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AF91-4BE2-4E9E-A833-9AF49D69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1F668-C23D-4640-BB53-DE1A77A4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A68D7-A92B-4E93-9CC7-A91271A2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8F8CC-56D5-49A3-AB56-4A1D153B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D880F-33DE-4E58-A2D9-815ED206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1E220-667A-43EB-AB81-DAF6595C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67D-CE0E-46B1-8224-C4716F14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AB51A-AECC-450A-B504-EF29B5FA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108C8-858A-42F2-8532-7D8A57FB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474E2-64D3-4EB2-94ED-D65CAD0F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07F17-79E3-4B12-8AE3-101D5DEC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A35C8-CBC9-4CB3-BD22-091E8B74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33521-698A-4D04-9CDA-AC341C03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F69E4-A166-4E4F-ABB2-74ED9C61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8E090-F843-4620-9C11-8A9675E1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B5681-E0A3-49DE-882D-DAED3812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3DDEB-7EB0-4710-B008-724FDE28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3CF-8605-431A-9A04-001C42A3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CD1AE-7039-4040-96C8-1BCEB8E7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A6A3C-4C49-4757-9D2E-BB2DF1B8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B47F1-F053-46A8-8BA2-2AEB26AE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00DEA-06FA-4544-AFD3-02DDD067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7FF16-1360-4FC1-AF83-805AB07E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9C5A4-B5F3-4BA6-97EB-DFB2E177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8D6C6-F26B-45F8-80D3-0F99839B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9F2A2-B40B-498F-90ED-0E7B755F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F756E-DA13-4135-ADBE-60ADBC98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031-D8B8-4DBA-91E8-B4A4FF7B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91F8-9074-4DA4-9337-D3C45CE1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7D0C-9318-474B-B10E-D900389F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D203-0D94-4758-903F-8499C344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0F2-C7EA-4B7F-8D49-5B2440F2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7D22-B984-49E5-A769-5DADB08A1B01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125A-2D6E-4BEC-A122-83372A61D6C3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D63A-4528-4A26-92EF-E7771DBCBEC7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A781-9A27-479D-8091-8EA841E62436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9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0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5D06-FA28-46DB-B8CA-92AA20036891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7B96-25A1-4DFA-B8BB-52662BE9D049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4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4EE6-22A6-4E7A-AB26-84627096134C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1CA7-7268-4EA5-BCE4-D56DE9439664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1" descr=""/>
          <p:cNvPicPr/>
          <p:nvPr/>
        </p:nvPicPr>
        <p:blipFill>
          <a:blip r:embed="rId2"/>
          <a:stretch/>
        </p:blipFill>
        <p:spPr>
          <a:xfrm>
            <a:off x="1378080" y="1255680"/>
            <a:ext cx="7710480" cy="4157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6"/>
          <p:cNvSpPr/>
          <p:nvPr/>
        </p:nvSpPr>
        <p:spPr>
          <a:xfrm>
            <a:off x="3957480" y="3606840"/>
            <a:ext cx="19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leh :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5" name="Picture 4" descr="moe TransParent"/>
          <p:cNvPicPr/>
          <p:nvPr/>
        </p:nvPicPr>
        <p:blipFill>
          <a:blip r:embed="rId3"/>
          <a:stretch/>
        </p:blipFill>
        <p:spPr>
          <a:xfrm>
            <a:off x="4492800" y="152280"/>
            <a:ext cx="1298520" cy="1143000"/>
          </a:xfrm>
          <a:prstGeom prst="rect">
            <a:avLst/>
          </a:prstGeom>
          <a:ln w="0">
            <a:noFill/>
          </a:ln>
        </p:spPr>
      </p:pic>
      <p:sp>
        <p:nvSpPr>
          <p:cNvPr id="186" name="Slide Number Placeholder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C6E0-425A-4A87-BEC4-C1E73F31F8A8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OPT1.jpg"/>
          <p:cNvPicPr/>
          <p:nvPr/>
        </p:nvPicPr>
        <p:blipFill>
          <a:blip r:embed="rId4"/>
          <a:srcRect l="1195" t="2085" r="1853" b="57998"/>
          <a:stretch/>
        </p:blipFill>
        <p:spPr>
          <a:xfrm>
            <a:off x="2865600" y="5275440"/>
            <a:ext cx="44384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D67C-5717-4122-A22B-5E697D118CC6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6880" y="-149760"/>
            <a:ext cx="8639280" cy="100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ANAN SEKOLAH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93760" y="917280"/>
            <a:ext cx="8562960" cy="61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Kenalpasti pendapatan ibu bapa/penjaga murid mengikut Paras Garis Kemiskinan (PGK) Nasional berdasarkan Borang Maklumat  Murid (BMM) bagi murid Tahun 1 hingga 5 pada tahun 2011 dan serahkan Borang Permohonan Individu KWAPM.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-36720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Mengumpul semula Borang Permohonan Individu KWAPM yang telah diisi bersama dokumen sokongan: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= salinan KP murid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= salinan KP ibu bapa / penjaga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-36720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Murid yang telah menerima KWAPM DSA pada tahun 2011, 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= tandakan (√) SAMBUNGAN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-36720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Murid yang baru kali pertama memohon KWAPM DSA, 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= tandakan (√) PERMOHONAN BARU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4021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2CEF-764F-4C91-B40F-7925C6DC0A45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4400"/>
            <a:ext cx="8639280" cy="1009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ANAN SEKOLAH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93760" y="1135080"/>
            <a:ext cx="818208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Jawatankuasa Pengurusan Bantuan Peringkat Sekolah menyaring setiap permohonan berdasarkan perkara-perkara berikut: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381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lvl="1" marL="657000" indent="-24804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Murid </a:t>
            </a:r>
            <a:r>
              <a:rPr b="1" lang="ms-MY" sz="2200" spc="-1" strike="noStrike" u="sng">
                <a:solidFill>
                  <a:srgbClr val="ffff66"/>
                </a:solidFill>
                <a:uFillTx/>
                <a:latin typeface="Arial"/>
              </a:rPr>
              <a:t>BUKAN</a:t>
            </a: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 penerima Bantuan Persekolahan dalam bentuk kewangan daripada pihak Yayasan, Kerajaan Negeri dan pihak swasta atau apa-apa elaun seperti dinyatakan dalam SPK Bil 6 Tahun 2010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lvl="1" marL="657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lvl="1" marL="657000" indent="-24804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Pendapatan keluarga  murid di bawah PGK Nasional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lvl="1" marL="657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lvl="1" marL="657000" indent="-248040" algn="just">
              <a:lnSpc>
                <a:spcPct val="90000"/>
              </a:lnSpc>
              <a:spcBef>
                <a:spcPts val="550"/>
              </a:spcBef>
              <a:buClr>
                <a:srgbClr val="fbd388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Bagi permohonan baru, Jawatankuasa Pengurusan Bantuan Peringkat Sekolah perlu melaksanakan pemantaun secara rawak ke rumah murid bagi mengesahkan status kemiskinan.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lvl="2" marL="102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381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381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057400" y="198108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ADCA-8297-40DC-9171-1503E6A187D4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6880" y="-149760"/>
            <a:ext cx="8639280" cy="100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ANAN SEKOLAH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93760" y="698040"/>
            <a:ext cx="8182080" cy="56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93840" indent="-35964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Memastikan semua maklumat diisi dengan LENGKAP terutamanya: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-48348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No Surat Beranak / No Kad Pengenalan murid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( 6 aksara bagi No SB, 12 aksara bagi No KP,                   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TIDAK PERLU tanda sempang atau jarak-space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-48348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Pendapatan kasar dan bilangan tanggungan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TIDAK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BOLEH diletak ‘0’ (Kosong) atau tiada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-48348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Nama dan No KP ibu bapa / penjaga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(12 aksara bagi no KP,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 TIDAK PERLU tanda sempang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atau jarak-space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0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93840" indent="-35964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Menyediakan Borang Rumusan Permohonan (BRP) (Format Baru) dan kemukakan ke JPN/PPD dalam bentuk hardcopy dan softcopy (CD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93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057400" y="198108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7E77-9E33-46FC-8270-9442923667D9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-149760"/>
            <a:ext cx="8639280" cy="100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ANAN PEJABAT PELAJARAN DAERAH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pic>
        <p:nvPicPr>
          <p:cNvPr id="201" name="Rectangle 3" descr=""/>
          <p:cNvPicPr/>
          <p:nvPr/>
        </p:nvPicPr>
        <p:blipFill>
          <a:blip r:embed="rId1"/>
          <a:stretch/>
        </p:blipFill>
        <p:spPr>
          <a:xfrm>
            <a:off x="285840" y="695160"/>
            <a:ext cx="8254800" cy="56134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2057400" y="198108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D9C5-F8D1-4CAE-8427-54A985F8DE3F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6880" y="-149760"/>
            <a:ext cx="8639280" cy="100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ANAN PEJABAT PELAJARAN DAERAH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93760" y="698040"/>
            <a:ext cx="8182080" cy="56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410400" indent="-37476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Memastikan semua maklumat diisi dengan LENGKAP terutamanya: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-50400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No Surat Beranak / No Kad Pengenalan murid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( 6 aksara bagi No SB, 12 aksara bagi No KP,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TIDAK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PERLU tanda sempang atau jarak-space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-50400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Pendapatan kasar dan bilangan tanggungan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TIDAK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BOLEH diletak ‘0’ (Kosong) atau tiada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-50400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Nama dan No KP ibu bapa / penjaga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(12 aksara bagi no KP,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 TIDAK PERLU tanda sempang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atau jarak-space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44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410400" indent="-37476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Menyerahkan softcopy (CD) BRP yang telah diselaraskan dan disatukan kepada JPN.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410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057400" y="198108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0C2E-2C3A-44DC-A8B4-DEAAB460528A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6880" y="-149760"/>
            <a:ext cx="8639280" cy="100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ANAN JABATAN PELAJARAN NEGERI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pic>
        <p:nvPicPr>
          <p:cNvPr id="209" name="Rectangle 3" descr=""/>
          <p:cNvPicPr/>
          <p:nvPr/>
        </p:nvPicPr>
        <p:blipFill>
          <a:blip r:embed="rId1"/>
          <a:stretch/>
        </p:blipFill>
        <p:spPr>
          <a:xfrm>
            <a:off x="285840" y="695160"/>
            <a:ext cx="8254800" cy="56134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2057400" y="198108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FD85-58E9-45B4-91E1-89D1CE22E960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6880" y="-149760"/>
            <a:ext cx="8639280" cy="100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ANAN JABATAN PELAJARAN NEGERI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3400" y="698040"/>
            <a:ext cx="831852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97800" indent="-36324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Memastikan semua maklumat diisi dengan LENGKAP terutamanya: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-48852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No Surat Beranak / No Kad Pengenalan murid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( 6 aksara bagi No SB, 12 aksara bagi No KP,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TIDAK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PERLU tanda sempang atau jarak-space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-48852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Pendapatan kasar dan bilangan tanggungan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TIDAK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BOLEH diletak ‘0’ (Kosong) atau tiada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-48852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90000"/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Nama dan No KP ibu bapa / penjaga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(12 aksara bagi no KP,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 TIDAK PERLU tanda sempang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atau jarak-space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91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97800" indent="-36324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Menyerahkan softcopy (CD) BRP yang telah diselaraskan dan disatukan kepada Bahagian Kewangan, Kementerian Pelajaran Malaysia untuk pembayaran </a:t>
            </a:r>
            <a:r>
              <a:rPr b="1" lang="ms-MY" sz="2000" spc="-1" strike="noStrike" u="sng">
                <a:solidFill>
                  <a:srgbClr val="ffff66"/>
                </a:solidFill>
                <a:uFillTx/>
                <a:latin typeface="Arial"/>
              </a:rPr>
              <a:t>selewat-lewatnya pada 15 Oktober 2011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97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2057400" y="198108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D4FF-EB0C-459A-8C35-E3461EA7D1F1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6880" y="55440"/>
            <a:ext cx="8639280" cy="136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f9307"/>
                </a:solidFill>
                <a:uFillTx/>
                <a:latin typeface="Arial"/>
              </a:rPr>
              <a:t>PERMOHONAN MURID TAHUN 1 DAN TINGKATAN 1 TAHUN 2012</a:t>
            </a:r>
            <a:endParaRPr b="0" lang="en-US" sz="32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2000" y="1517400"/>
            <a:ext cx="831852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Permohonan bagi murid Tahun 1 dan Tingkatan 1 adalah menggunapakai kaedah yang sama seperti di atas tetapi dilaksanakan mulai bulan Januari 2012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41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499"/>
              </a:spcBef>
              <a:buClr>
                <a:srgbClr val="fbd38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JPN perlu menyerahkan softcopy (CD) BRP yang telah diselaraskan dan disatukan kepada Bahagian Kewangan, Kementerian Pelajaran Malaysia selewat-lewatnya pada 28 Februari 2012.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41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2057400" y="198108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4:34:52Z</dcterms:created>
  <dc:creator> </dc:creator>
  <dc:description/>
  <dc:language>en-US</dc:language>
  <cp:lastModifiedBy>Lenovo User</cp:lastModifiedBy>
  <dcterms:modified xsi:type="dcterms:W3CDTF">2011-07-18T09:51:45Z</dcterms:modified>
  <cp:revision>427</cp:revision>
  <dc:subject/>
  <dc:title>Slide 1</dc:title>
</cp:coreProperties>
</file>