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96640" y="69228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0F6-43E6-424B-8718-E387E399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0C6-EF61-4E39-AFD7-BFFEBEF982FD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A8B-517E-481B-8D9C-5344C5C3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8DB-68CE-4000-B618-B57EBEA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364-D006-4DB3-859D-C31166C5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C87-9C54-47F3-98B6-56C0192B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5A37-F911-4727-8BF6-456A7E36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3BED-39D0-462D-835E-27900106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5FB3-2321-4FBD-A44F-B4BC7D5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8095-9F75-42A8-8D71-9DF5FD56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7E5F-B5FA-4926-B1EA-70FECE9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D78-5AFE-4564-BB99-23C6CF25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633F-7DC2-4222-9681-8AEC278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935-5794-4993-AA3C-DFBF54D2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782B-AE59-41DF-80BB-FC1792B3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3D04-2EBF-4660-9505-8533C133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AF99-B5C9-4E92-8FA0-533C1B3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B3C3-AE00-41BF-858D-970BD931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84A1-45FC-4882-98EF-0FCC0D67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4197-DC03-4A95-AFB9-A3030687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491F-0EFF-40B4-A8EA-B33B1C0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2298-CF49-4BDE-B3B3-E0B3CC1A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BA5D-7486-4921-AFC1-1CEEFB36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7605-CD86-4A1F-A94B-39E13AD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41D-5658-46B3-9643-64B32696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F8D6-1530-4206-9B0F-2E92E7E6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D3FF-3C2C-41BF-AC95-5460E2B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CCCE-4900-402A-ABDD-02876FD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A09B-BB91-4F7E-A6F5-09E70C1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58BD-EB63-47F1-BA15-6817AB7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7881-35F0-45B8-82D9-AAF73537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12BB-164E-4EFE-BC0F-B1EEDE3E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D9FE-FB55-4FC7-95B9-3A0998D2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01F0-ED19-44A0-9EDA-B771AB66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FD15-9AC6-4382-956C-F38E8F3D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5B9-A6DD-426C-9FDE-A291EA60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2AE4-1142-4CEE-8AE3-FB9C490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452C-7D75-4840-9EBE-64AB42D5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77A0-7D36-4F9C-A98C-CF420AAE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26D0-945F-47E2-905E-144D575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23A5-9356-4C6F-B3A0-C2BB8991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934E-E62D-4BF8-A567-94DA004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1AE1-99A7-4765-9496-8551BF08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C553-19AC-40B8-B9DB-0B830B8F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6EF7-6169-481F-980F-5F0618AB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92E-9B44-49A2-B216-6E53869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86E-BBC1-4436-A60A-2EB17CF0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DD5-61E9-4CA5-B1DC-91798F7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A1E-CA6F-4746-B242-48CB345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7AF-9524-4C0E-BA78-0D64A97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CBB0-4AEC-4DE6-B8F6-F8A99BA63E23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BEC7-8BDC-44FD-9FCD-F88F4B51A35E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7A6C-5317-4E60-AB5A-59FA691ABBB6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933-9181-4496-BEF3-F50168152864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30F9-9B24-4473-9DE2-C1A0A92B40B6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ED0-BDD0-4AB9-9085-4971A4AFFBEF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B06D-4BA2-443B-9173-484D8CE466B3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B837-DD52-4F2C-82D3-1451BC149D8F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2"/>
          <a:stretch/>
        </p:blipFill>
        <p:spPr>
          <a:xfrm>
            <a:off x="1725480" y="1530360"/>
            <a:ext cx="7223400" cy="479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oe TransParent"/>
          <p:cNvPicPr/>
          <p:nvPr/>
        </p:nvPicPr>
        <p:blipFill>
          <a:blip r:embed="rId3"/>
          <a:stretch/>
        </p:blipFill>
        <p:spPr>
          <a:xfrm>
            <a:off x="4492800" y="152280"/>
            <a:ext cx="1298520" cy="114300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9F20-BBA2-4094-9643-AF8269D33B5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9920" y="-360"/>
            <a:ext cx="7467480" cy="94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4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165320"/>
            <a:ext cx="86072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utusan Pengerusi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ngesahan Minit Mesyuarat Bil. 2 Tahun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bincangan Isu KWAPM 2011 dan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)    Status Pembayaran KWAPM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i)    Format Permohonan KWAPM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ii)   Cadangan Pembekalan Pakaian &amp; Aksesori   Sekolah Bagi Bantuan KWAPM Tahun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v)   Teguran SPRM – Pemeriksaan Amalan, Sistem dan Prosedur Kerja Pengagihan Bantuan KWAPM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bincangan awal deraf SPK Baru KWAPM Tahun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Hal-hal lai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nutup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2F3-40CD-478C-8B28-C94B1AAFD657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87160" y="24220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4600" spc="-1" strike="noStrike">
                <a:solidFill>
                  <a:srgbClr val="ffffff"/>
                </a:solidFill>
                <a:latin typeface="Arial"/>
              </a:rPr>
              <a:t>MINIT MESYUARAT BIL. 2 TAHUN 2011 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FB6D-0ADD-449E-AB97-DDCBE946A2B5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C:\Program Files\Microsoft Office\MEDIA\CAGCAT10\j0293236.wmf"/>
          <p:cNvPicPr/>
          <p:nvPr/>
        </p:nvPicPr>
        <p:blipFill>
          <a:blip r:embed="rId1"/>
          <a:stretch/>
        </p:blipFill>
        <p:spPr>
          <a:xfrm>
            <a:off x="3005280" y="441972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12C7-8CB6-402D-AE9E-28CEE153B7D8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1890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US PEMBAYARAN KWAPM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440" y="942840"/>
          <a:ext cx="9042480" cy="5507280"/>
        </p:xfrm>
        <a:graphic>
          <a:graphicData uri="http://schemas.openxmlformats.org/drawingml/2006/table">
            <a:tbl>
              <a:tblPr/>
              <a:tblGrid>
                <a:gridCol w="333360"/>
                <a:gridCol w="1001880"/>
                <a:gridCol w="1627200"/>
                <a:gridCol w="898560"/>
                <a:gridCol w="2001600"/>
                <a:gridCol w="828720"/>
                <a:gridCol w="1524240"/>
                <a:gridCol w="826920"/>
              </a:tblGrid>
              <a:tr h="333000">
                <a:tc row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BIL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row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NEGERI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EKASIH TAHUN 1 TINGKATAN 1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ATA SEDIA ADA (DSA) DARJAH 3-6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ATA SEDIA ADA (DSA) DARJAH 1-2 &amp; TING 1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EDAH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875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ABAH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 </a:t>
                      </a: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13/7/2011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belum terima 3 daerah, semporna Kinabatangan dan beaufort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belum terima 3 daerah, semporna Kinabatangan dan beaufort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17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ERENGGANU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proses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LABU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mohonan baru sampai (18/7/2011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6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ULAU PINANG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LI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ELANT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NEGERI SEMBIL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AK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MELAKA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6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UALA LUMPU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0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ARAWAK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JOHO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AHANG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ELANGO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160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UTRAJAYA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41B8-785E-4C69-81D1-0A1EB41F6C5C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6" name="Rectangle 24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45520" cy="774720"/>
          </a:xfrm>
          <a:prstGeom prst="rect">
            <a:avLst/>
          </a:prstGeom>
          <a:ln w="0">
            <a:noFill/>
          </a:ln>
        </p:spPr>
      </p:pic>
      <p:pic>
        <p:nvPicPr>
          <p:cNvPr id="197" name="Group 4" descr=""/>
          <p:cNvPicPr/>
          <p:nvPr/>
        </p:nvPicPr>
        <p:blipFill>
          <a:blip r:embed="rId2"/>
          <a:stretch/>
        </p:blipFill>
        <p:spPr>
          <a:xfrm>
            <a:off x="2305080" y="1712880"/>
            <a:ext cx="4572000" cy="3322800"/>
          </a:xfrm>
          <a:prstGeom prst="rect">
            <a:avLst/>
          </a:prstGeom>
          <a:ln w="0">
            <a:noFill/>
          </a:ln>
        </p:spPr>
      </p:pic>
      <p:pic>
        <p:nvPicPr>
          <p:cNvPr id="198" name="Text Box 6" descr=""/>
          <p:cNvPicPr/>
          <p:nvPr/>
        </p:nvPicPr>
        <p:blipFill>
          <a:blip r:embed="rId3"/>
          <a:stretch/>
        </p:blipFill>
        <p:spPr>
          <a:xfrm>
            <a:off x="828720" y="4181400"/>
            <a:ext cx="3157560" cy="536760"/>
          </a:xfrm>
          <a:prstGeom prst="rect">
            <a:avLst/>
          </a:prstGeom>
          <a:ln w="0">
            <a:noFill/>
          </a:ln>
        </p:spPr>
      </p:pic>
      <p:pic>
        <p:nvPicPr>
          <p:cNvPr id="199" name="Text Box 6" descr=""/>
          <p:cNvPicPr/>
          <p:nvPr/>
        </p:nvPicPr>
        <p:blipFill>
          <a:blip r:embed="rId4"/>
          <a:stretch/>
        </p:blipFill>
        <p:spPr>
          <a:xfrm>
            <a:off x="5022720" y="4108320"/>
            <a:ext cx="3157560" cy="542880"/>
          </a:xfrm>
          <a:prstGeom prst="rect">
            <a:avLst/>
          </a:prstGeom>
          <a:ln w="0">
            <a:noFill/>
          </a:ln>
        </p:spPr>
      </p:pic>
      <p:sp>
        <p:nvSpPr>
          <p:cNvPr id="200" name="Down Arrow 11"/>
          <p:cNvSpPr/>
          <p:nvPr/>
        </p:nvSpPr>
        <p:spPr>
          <a:xfrm>
            <a:off x="2684520" y="3265560"/>
            <a:ext cx="485640" cy="9777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Down Arrow 14"/>
          <p:cNvSpPr/>
          <p:nvPr/>
        </p:nvSpPr>
        <p:spPr>
          <a:xfrm>
            <a:off x="5748480" y="3208320"/>
            <a:ext cx="477720" cy="942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DF92-53B0-4E36-A497-5DE855F41668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03" name="Rectangle 24" descr=""/>
          <p:cNvPicPr/>
          <p:nvPr/>
        </p:nvPicPr>
        <p:blipFill>
          <a:blip r:embed="rId1"/>
          <a:stretch/>
        </p:blipFill>
        <p:spPr>
          <a:xfrm>
            <a:off x="360360" y="158760"/>
            <a:ext cx="8345520" cy="895320"/>
          </a:xfrm>
          <a:prstGeom prst="rect">
            <a:avLst/>
          </a:prstGeom>
          <a:ln w="0">
            <a:noFill/>
          </a:ln>
        </p:spPr>
      </p:pic>
      <p:pic>
        <p:nvPicPr>
          <p:cNvPr id="204" name="Group 4" descr=""/>
          <p:cNvPicPr/>
          <p:nvPr/>
        </p:nvPicPr>
        <p:blipFill>
          <a:blip r:embed="rId2"/>
          <a:stretch/>
        </p:blipFill>
        <p:spPr>
          <a:xfrm>
            <a:off x="2000160" y="1292400"/>
            <a:ext cx="46562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63600" y="2911320"/>
          <a:ext cx="8447040" cy="3292560"/>
        </p:xfrm>
        <a:graphic>
          <a:graphicData uri="http://schemas.openxmlformats.org/drawingml/2006/table">
            <a:tbl>
              <a:tblPr/>
              <a:tblGrid>
                <a:gridCol w="711000"/>
                <a:gridCol w="3716640"/>
                <a:gridCol w="401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LEBIHAN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KURANGAN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ntuan dimanfaatkan sepenuhnya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iada baki wang KWAPM untuk Bayaran Tambahan Persekolah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lah guna wang bantuan dapat dielakk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ngumpulan data dan saiz baju memakan masa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ihan peralatan sekolah terus ke sekolah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elewatan penghantar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ualiti dan kuantiti barangan dapat dikawal kerana daripada sumber yang sama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iz yang tidak bersesuaian / tidak tepat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0B1-264B-4BFC-9664-384F2261D877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07" name="Rectangle 24" descr=""/>
          <p:cNvPicPr/>
          <p:nvPr/>
        </p:nvPicPr>
        <p:blipFill>
          <a:blip r:embed="rId1"/>
          <a:stretch/>
        </p:blipFill>
        <p:spPr>
          <a:xfrm>
            <a:off x="255600" y="328680"/>
            <a:ext cx="8656560" cy="1469880"/>
          </a:xfrm>
          <a:prstGeom prst="rect">
            <a:avLst/>
          </a:prstGeom>
          <a:ln w="0">
            <a:noFill/>
          </a:ln>
        </p:spPr>
      </p:pic>
      <p:pic>
        <p:nvPicPr>
          <p:cNvPr id="208" name="Group 4" descr=""/>
          <p:cNvPicPr/>
          <p:nvPr/>
        </p:nvPicPr>
        <p:blipFill>
          <a:blip r:embed="rId2"/>
          <a:stretch/>
        </p:blipFill>
        <p:spPr>
          <a:xfrm>
            <a:off x="2230560" y="2700360"/>
            <a:ext cx="45720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E73-9FFC-4382-AD37-88A27526CEF6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10" name="Rectangle 24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45520" cy="774720"/>
          </a:xfrm>
          <a:prstGeom prst="rect">
            <a:avLst/>
          </a:prstGeom>
          <a:ln w="0">
            <a:noFill/>
          </a:ln>
        </p:spPr>
      </p:pic>
      <p:pic>
        <p:nvPicPr>
          <p:cNvPr id="211" name="Group 4" descr=""/>
          <p:cNvPicPr/>
          <p:nvPr/>
        </p:nvPicPr>
        <p:blipFill>
          <a:blip r:embed="rId2"/>
          <a:stretch/>
        </p:blipFill>
        <p:spPr>
          <a:xfrm>
            <a:off x="2305080" y="1712880"/>
            <a:ext cx="4572000" cy="3322800"/>
          </a:xfrm>
          <a:prstGeom prst="rect">
            <a:avLst/>
          </a:prstGeom>
          <a:ln w="0">
            <a:noFill/>
          </a:ln>
        </p:spPr>
      </p:pic>
      <p:pic>
        <p:nvPicPr>
          <p:cNvPr id="212" name="Text Box 6" descr=""/>
          <p:cNvPicPr/>
          <p:nvPr/>
        </p:nvPicPr>
        <p:blipFill>
          <a:blip r:embed="rId3"/>
          <a:stretch/>
        </p:blipFill>
        <p:spPr>
          <a:xfrm>
            <a:off x="828720" y="4181400"/>
            <a:ext cx="3157560" cy="536760"/>
          </a:xfrm>
          <a:prstGeom prst="rect">
            <a:avLst/>
          </a:prstGeom>
          <a:ln w="0">
            <a:noFill/>
          </a:ln>
        </p:spPr>
      </p:pic>
      <p:pic>
        <p:nvPicPr>
          <p:cNvPr id="213" name="Text Box 6" descr=""/>
          <p:cNvPicPr/>
          <p:nvPr/>
        </p:nvPicPr>
        <p:blipFill>
          <a:blip r:embed="rId4"/>
          <a:stretch/>
        </p:blipFill>
        <p:spPr>
          <a:xfrm>
            <a:off x="5022720" y="4108320"/>
            <a:ext cx="3157560" cy="542880"/>
          </a:xfrm>
          <a:prstGeom prst="rect">
            <a:avLst/>
          </a:prstGeom>
          <a:ln w="0">
            <a:noFill/>
          </a:ln>
        </p:spPr>
      </p:pic>
      <p:sp>
        <p:nvSpPr>
          <p:cNvPr id="214" name="Down Arrow 11"/>
          <p:cNvSpPr/>
          <p:nvPr/>
        </p:nvSpPr>
        <p:spPr>
          <a:xfrm>
            <a:off x="2684520" y="3265560"/>
            <a:ext cx="485640" cy="9777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Down Arrow 14"/>
          <p:cNvSpPr/>
          <p:nvPr/>
        </p:nvSpPr>
        <p:spPr>
          <a:xfrm>
            <a:off x="5748480" y="3208320"/>
            <a:ext cx="477720" cy="942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2CC-078A-4041-83CB-D9203F0F6988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17" name="Rectangle 24" descr=""/>
          <p:cNvPicPr/>
          <p:nvPr/>
        </p:nvPicPr>
        <p:blipFill>
          <a:blip r:embed="rId1"/>
          <a:stretch/>
        </p:blipFill>
        <p:spPr>
          <a:xfrm>
            <a:off x="237960" y="2341440"/>
            <a:ext cx="8345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4:34:52Z</dcterms:created>
  <dc:creator>sue</dc:creator>
  <dc:description/>
  <dc:language>en-US</dc:language>
  <cp:lastModifiedBy>Lenovo User</cp:lastModifiedBy>
  <dcterms:modified xsi:type="dcterms:W3CDTF">2011-07-19T00:24:37Z</dcterms:modified>
  <cp:revision>365</cp:revision>
  <dc:subject/>
  <dc:title>Slide 1</dc:title>
</cp:coreProperties>
</file>