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23400" y="747720"/>
            <a:ext cx="4986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9385-0156-46FD-AFFD-63D10B3F6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B362-6C6D-45F5-AA04-78CC49A22081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A4D-D1DA-4EE2-825B-A5900873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7A5-5489-4F57-8C7D-6772A27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7F1-58B7-4A65-A417-F12B151E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27C-FB49-408B-8E86-E26568FB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F1E4-B551-467F-A79A-128F37BF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3A36-24AB-4969-9E3B-172C5D3E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4A72-798A-4ECB-AD10-CBE862F1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69BA-97BF-4A6B-9953-D3F12164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2FC-E05D-41DE-BC84-B396C40F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08F-A5E4-494A-8194-94FB564D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57F9-F7C8-45C4-ADE0-FFF986C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FC6-B31E-45AD-9002-75D93F8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24FF-308E-46CF-91D5-CF6FCC6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B822-4784-4AEE-921E-EC274EA0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F319-DA30-4D59-B464-5A62145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3C9-FF40-444E-B58C-DA529261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CFC2-6BFE-4497-AAB9-4DF17B42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881D-9D1F-4AEF-9B09-3801AB7A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DE61-3E83-467F-A857-71593292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BB3C-61E7-472D-86FB-2A46CD17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7724-F4E7-4F39-8646-63EA74BF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A6FA-5BCD-47E1-8962-CECAE8E1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762-0D73-4F09-A230-225EA203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8B4E-33A1-4871-BDCD-4CA2BBC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AEA2-A5C7-447B-9516-2AEFFBE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C725-A20E-4EED-8A09-51A118C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592A-1338-4725-B299-747A711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2AB9-1EFC-419B-A837-56A65DDC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2204-B926-4666-8A51-5828FD57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7439-0C49-4CBB-8606-833E4B98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EF71-04C8-47F7-B314-5A2F8B42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4AF5-A61A-47EF-84DF-9FCCA3F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CD15-E33D-4BAB-9B92-FF332D9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695-D49E-4B4E-9251-38CEDC3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FB1F-18E3-4A74-81F0-82838FB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561A-2A37-4CFE-8480-05E5BD2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259A-0D79-4F79-9048-7498205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8BAF-1EF0-492F-BC65-521CDC5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7AC4-9D35-4F78-B75C-8E2E626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E2B6-5F29-4561-8E23-7AF8FCD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5478-C4C9-4560-9A92-151126B3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CA6C-BF6E-4CB1-8542-6B43C369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C012-63DC-4A12-8978-EAC4D8C2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1D2-1A74-4073-BB61-FC821D02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5B9-BF01-4463-8CCC-64D2A776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ED1-398C-469E-9204-9BA1A3A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82D-971B-412B-B430-CC261B8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E54-3B3A-4F48-8737-EB5478F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14FB-23CE-4EAE-9DEB-69FA9F504331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8005-F40F-4F77-9B4E-F45A00985321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7D7-0B77-4C9E-99FC-808090CAB75A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B71-F947-4002-B2D3-9C20AF148118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BE2-0AAE-4060-A827-F0B90E872DDB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D3B3-AA4A-4750-9C72-72C3DED4DB44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1A1-CC45-40B3-9ADD-2AFE593C498F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079C-6FD2-4268-9503-D1E89A3FC9A8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2"/>
          <a:stretch/>
        </p:blipFill>
        <p:spPr>
          <a:xfrm>
            <a:off x="1378080" y="1255680"/>
            <a:ext cx="7710480" cy="4157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3957480" y="3606840"/>
            <a:ext cx="19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leh 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5" name="Picture 4" descr="moe TransParent"/>
          <p:cNvPicPr/>
          <p:nvPr/>
        </p:nvPicPr>
        <p:blipFill>
          <a:blip r:embed="rId3"/>
          <a:stretch/>
        </p:blipFill>
        <p:spPr>
          <a:xfrm>
            <a:off x="4492800" y="152280"/>
            <a:ext cx="12985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5D82-DC98-4D30-ADB0-9F5B4F463E5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OPT1.jpg"/>
          <p:cNvPicPr/>
          <p:nvPr/>
        </p:nvPicPr>
        <p:blipFill>
          <a:blip r:embed="rId4"/>
          <a:srcRect l="1195" t="2085" r="1853" b="57998"/>
          <a:stretch/>
        </p:blipFill>
        <p:spPr>
          <a:xfrm>
            <a:off x="2865600" y="5275440"/>
            <a:ext cx="44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7C8-0AAA-4B2D-A74C-E7845E26943D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3760" y="917280"/>
            <a:ext cx="856296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Kenal pasti pendapatan ibu bapa/penjaga murid mengikut Paras Garis Kemiskinan (PGK) Nasional berdasarkan Borang Maklumat  Murid (BMM) bagi murid Tahun 1 hingga 5 pada tahun 2011 dan serahkan Borang Permohonan Individu KWAPM.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engumpul semula Borang Permohonan Individu KWAPM yang telah diisi bersama dokumen sokongan: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salinan KP murid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salinan KP ibu bapa / penjaga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yang telah menerima KWAPM DSA pada tahun 2011,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tandakan (√) SAMBUNGAN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yang baru kali pertama memohon KWAPM DSA,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tandakan (√) PERMOHONAN BARU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3D5-CCEB-45A1-A7D3-0DB667DF776A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4400"/>
            <a:ext cx="86392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3760" y="1135080"/>
            <a:ext cx="818208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Jawatankuasa Pengurusan Bantuan Peringkat Sekolah menyaring setiap permohonan berdasarkan perkara-perkara berikut: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</a:t>
            </a:r>
            <a:r>
              <a:rPr b="1" lang="ms-MY" sz="2200" spc="-1" strike="noStrike" u="sng">
                <a:solidFill>
                  <a:srgbClr val="ffff66"/>
                </a:solidFill>
                <a:uFillTx/>
                <a:latin typeface="Arial"/>
              </a:rPr>
              <a:t>BUKAN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penerima Bantuan Persekolahan dalam bentuk kewangan daripada pihak Yayasan, Kerajaan Negeri dan pihak swasta atau apa-apa elaun seperti dinyatakan dalam SPK Bil 6 Tahun 2010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Pendapatan keluarga  murid di bawah PGK Nasional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Bagi permohonan baru, Jawatankuasa Pengurusan Bantuan Peringkat Sekolah perlu melaksanakan pemantaun secara rawak ke rumah murid bagi mengesahkan status kemiskinan.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2" marL="102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F454-4B7F-446C-AAE1-ED7F4232F8A6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3760" y="698040"/>
            <a:ext cx="81820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-3596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          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 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-3596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diakan Borang Rumusan Permohonan (BRP) (Format Baru) dan kemukakan ke JPN/PPD dalam bentuk hardcopy dan softcopy (CD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063B-658F-49F2-A21B-CA8AFD62BABF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PEJABAT PELAJARAN DAER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254800" cy="561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F22A-1225-47B2-930E-15C95DAA7DB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PEJABAT PELAJARAN DAER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3760" y="698040"/>
            <a:ext cx="81820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-37476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-37476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rahkan softcopy (CD) BRP yang telah diselaraskan dan disatukan kepada JPN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DFBD-668F-4476-B676-735AA42B3960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JABATAN PELAJARAN NEGERI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254800" cy="5613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F60-9449-4509-8FA8-4ED3C3130A17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JABATAN PELAJARAN NEGERI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3400" y="698040"/>
            <a:ext cx="831852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-3632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-3632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rahkan softcopy (CD) BRP yang telah diselaraskan dan disatukan kepada Bahagian Kewangan, Kementerian Pelajaran Malaysia untuk pembayar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selewat-lewatnya pada 15 Oktober 2011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F135-6A9D-4238-97F3-898BD874E998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6880" y="55440"/>
            <a:ext cx="8639280" cy="136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MOHONAN MURID TAHUN 1 DAN TINGKATAN 1 TAHUN 2012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2000" y="1517400"/>
            <a:ext cx="831852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rmohonan bagi murid Tahun 1 dan Tingkatan 1 adalah mengguna pakai kaedah yang sama seperti di atas tetapi dilaksanakan mulai bulan Januari 2012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JPN perlu menyerahkan </a:t>
            </a:r>
            <a:r>
              <a:rPr b="1" i="1" lang="ms-MY" sz="2000" spc="-1" strike="noStrike">
                <a:solidFill>
                  <a:srgbClr val="ffff66"/>
                </a:solidFill>
                <a:latin typeface="Arial"/>
              </a:rPr>
              <a:t>softcopy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(CD) BRP yang telah diselaraskan dan disatukan kepada Bahagian Kewangan, Kementerian Pelajaran Malaysia selewat-lewatnya pada 28 Februari 2012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4:34:52Z</dcterms:created>
  <dc:creator> </dc:creator>
  <dc:description/>
  <dc:language>en-US</dc:language>
  <cp:lastModifiedBy>Mohd Rizlan Dagang</cp:lastModifiedBy>
  <dcterms:modified xsi:type="dcterms:W3CDTF">2011-08-02T05:57:42Z</dcterms:modified>
  <cp:revision>430</cp:revision>
  <dc:subject/>
  <dc:title>Slide 1</dc:title>
</cp:coreProperties>
</file>